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5690-A95E-4FEE-B440-95A3E8D6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EC64-EC72-4076-9349-06EA6087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7696-7E3F-4A9B-95D6-669D0E0B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3DEE-151D-4C61-96E5-AA142E40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A9C7-5077-4799-8A88-BEACB3F8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8A0F-2337-4B3C-A073-C1877217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3838-9814-4843-B58F-77FD9EE8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DDCA-1D54-471E-A661-449F6A00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6CB0-DE09-45DD-B1BE-2135B1AD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6291-D12C-4733-A29D-CCB3B263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59D8-3D0B-4A3E-B422-E55F4FBF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67B8-4053-485B-B916-DCE5B484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1B10-3415-42C4-92EB-DE505B81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1D59-4136-4B8F-ABBE-095FB144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FE08-78DE-462D-908F-33F9F974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B395-4C51-4AE5-8E57-C49712686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3037-A88C-4753-8D18-50DA7571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A92D-1D46-4BE9-8B44-D579F1D2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99B3-CEF6-42D5-AF9F-E6544C38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CE35-A517-43B1-9D48-0BECA020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9CF4-0AB6-4BB9-B198-B3BCE703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8CE3-FFE5-460D-86A6-8A5B0171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01BB-CEE0-411B-8201-880532D3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25FD-9698-4C92-A67E-B702B5B4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10E2-2093-4AB6-99D5-708C8A6466C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AAC3-5D77-41FA-925F-F8AA7D72213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788000" y="4437000"/>
            <a:ext cx="1614240" cy="2421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327800" y="0"/>
            <a:ext cx="1816200" cy="2421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941840" cy="2421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17640" cy="2421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3564000" y="0"/>
            <a:ext cx="1857240" cy="2421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5435640" y="907920"/>
            <a:ext cx="1920960" cy="2421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3348000" y="3357720"/>
            <a:ext cx="1409760" cy="2700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0" y="3357720"/>
            <a:ext cx="1816200" cy="2420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1692360" y="907920"/>
            <a:ext cx="1830240" cy="2421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7667640" y="4471920"/>
            <a:ext cx="1674720" cy="2386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1"/>
          <a:stretch/>
        </p:blipFill>
        <p:spPr>
          <a:xfrm>
            <a:off x="6372360" y="3284640"/>
            <a:ext cx="16048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03640" y="4629240"/>
            <a:ext cx="3024000" cy="22287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84360" y="2492280"/>
            <a:ext cx="4248000" cy="2219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372360" y="2629080"/>
            <a:ext cx="2619360" cy="4228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4643280" y="0"/>
            <a:ext cx="4248360" cy="2522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179280" y="-171360"/>
            <a:ext cx="3132360" cy="2693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179280" y="4778280"/>
            <a:ext cx="277200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4:44:48Z</dcterms:created>
  <dc:creator>VIENNA XP</dc:creator>
  <dc:description/>
  <dc:language>en-US</dc:language>
  <cp:lastModifiedBy>VIENNA XP</cp:lastModifiedBy>
  <dcterms:modified xsi:type="dcterms:W3CDTF">2009-04-20T16:55:29Z</dcterms:modified>
  <cp:revision>3</cp:revision>
  <dc:subject/>
  <dc:title>Слайд 1</dc:title>
</cp:coreProperties>
</file>