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wmf" ContentType="image/x-wmf"/>
  <Override PartName="/ppt/media/image10.gif" ContentType="image/gif"/>
  <Override PartName="/ppt/media/image17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8CF-7CCA-419A-AC65-CCF849F5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4EA-1EEE-4A42-9F34-36916054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1DE-53A5-480E-B6E4-E38DE245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A35-B54C-42FB-BCD7-1F882137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803-908D-4393-A5A8-91BE1FFC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2EA8-47C2-4F87-95DE-D768FEC9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B82-E7D0-4A4F-9650-C951B37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6FF1-4406-4F22-98EC-E9C861C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1B3-53A0-4DAA-893D-B64A30AD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C823-B2CF-40AB-86B0-1590F334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4531-8259-4E03-ABDE-BC6C763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B1A-D4B2-46D3-855C-A6FAD86E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54F9-14C0-4469-B543-C92656D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4A25-DD8D-41A0-BDE0-34F11A2E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735F-0239-43DB-BDB7-8C82479E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890A-F9E9-415F-82BF-EAD7D38C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72D0-7241-490A-B381-5E24B7C4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231-498C-4AD0-A8CD-5791AF01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D69-62A9-4983-BB6D-31F6C68D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DE0C-F76E-4BA8-B12D-CBAA1E99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0E9-36A5-4653-BD94-32C9C013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6B4-DA19-4805-A108-0379B70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7EA-1967-4339-A5DD-93F062CE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026-F80D-4700-8E4B-4EB8839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4B08-8CD8-4508-A702-FDBB341499C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07C-FC54-4B9D-8CDC-206186BE062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19280" y="1700280"/>
            <a:ext cx="6624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ституц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02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7308720" y="26028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9 класс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0000" y="404640"/>
            <a:ext cx="7772400" cy="64800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 Narrow"/>
              </a:rPr>
              <a:t>Обязанности граждан РФ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1628640"/>
            <a:ext cx="77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  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Гражданин: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Обязан соблюдать законы государства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Должен платить налоги, сборы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Должен защищать Отечество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Должен сохранять природу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Должен заботиться о детях и нетрудоспособных родителях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  </a:t>
            </a: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Должен беречь памятники культуры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3240" y="188640"/>
            <a:ext cx="7772400" cy="58716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Основной закон государств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1800" y="1401840"/>
            <a:ext cx="3724200" cy="1554840"/>
            <a:chOff x="631800" y="1401840"/>
            <a:chExt cx="3724200" cy="1554840"/>
          </a:xfrm>
        </p:grpSpPr>
        <p:sp>
          <p:nvSpPr>
            <p:cNvPr id="213" name=""/>
            <p:cNvSpPr txBox="1"/>
            <p:nvPr/>
          </p:nvSpPr>
          <p:spPr>
            <a:xfrm>
              <a:off x="631800" y="1401840"/>
              <a:ext cx="37242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33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Конституция РФ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33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12 декабря 1993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03840" y="249696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(Основные задачи)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615560" y="998640"/>
            <a:ext cx="429264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.Закрепить и гарантировать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ава человека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2.Упорядочить государственную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ласть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.Утвердить правосудие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стране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73280" y="5516640"/>
            <a:ext cx="7366320" cy="846000"/>
            <a:chOff x="773280" y="5516640"/>
            <a:chExt cx="7366320" cy="846000"/>
          </a:xfrm>
        </p:grpSpPr>
        <p:sp>
          <p:nvSpPr>
            <p:cNvPr id="217" name=""/>
            <p:cNvSpPr txBox="1"/>
            <p:nvPr/>
          </p:nvSpPr>
          <p:spPr>
            <a:xfrm>
              <a:off x="773280" y="5516640"/>
              <a:ext cx="2854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latin typeface="Impact"/>
                </a:rPr>
                <a:t>3.</a:t>
              </a:r>
              <a:endPara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1346040" y="5516640"/>
              <a:ext cx="774720" cy="8460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19" name=""/>
            <p:cNvSpPr/>
            <p:nvPr/>
          </p:nvSpPr>
          <p:spPr>
            <a:xfrm>
              <a:off x="2471040" y="5708520"/>
              <a:ext cx="56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Создание эффективной судебной системы.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74720" y="4653000"/>
            <a:ext cx="4416480" cy="714240"/>
            <a:chOff x="774720" y="4653000"/>
            <a:chExt cx="4416480" cy="714240"/>
          </a:xfrm>
        </p:grpSpPr>
        <p:sp>
          <p:nvSpPr>
            <p:cNvPr id="221" name=""/>
            <p:cNvSpPr txBox="1"/>
            <p:nvPr/>
          </p:nvSpPr>
          <p:spPr>
            <a:xfrm>
              <a:off x="774720" y="4653000"/>
              <a:ext cx="285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latin typeface="Impact"/>
                </a:rPr>
                <a:t>2.</a:t>
              </a:r>
              <a:endPara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1336680" y="4653000"/>
              <a:ext cx="792000" cy="714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23" name=""/>
            <p:cNvSpPr/>
            <p:nvPr/>
          </p:nvSpPr>
          <p:spPr>
            <a:xfrm>
              <a:off x="2468520" y="4756320"/>
              <a:ext cx="272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Разделение властей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74720" y="3571920"/>
            <a:ext cx="7697880" cy="936720"/>
            <a:chOff x="774720" y="3571920"/>
            <a:chExt cx="7697880" cy="936720"/>
          </a:xfrm>
        </p:grpSpPr>
        <p:sp>
          <p:nvSpPr>
            <p:cNvPr id="225" name=""/>
            <p:cNvSpPr txBox="1"/>
            <p:nvPr/>
          </p:nvSpPr>
          <p:spPr>
            <a:xfrm>
              <a:off x="774720" y="3789360"/>
              <a:ext cx="2858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latin typeface="Impact"/>
                </a:rPr>
                <a:t>1.</a:t>
              </a:r>
              <a:endPara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9"/>
            <a:stretch/>
          </p:blipFill>
          <p:spPr>
            <a:xfrm>
              <a:off x="1332000" y="3571920"/>
              <a:ext cx="803160" cy="9367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2473200" y="3805200"/>
              <a:ext cx="59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Соответствие законов Международным Актам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3240" y="188640"/>
            <a:ext cx="7772400" cy="58716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На пути к Конституции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1692360" cy="12463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3" name=""/>
          <p:cNvSpPr txBox="1"/>
          <p:nvPr/>
        </p:nvSpPr>
        <p:spPr>
          <a:xfrm>
            <a:off x="3059280" y="1346040"/>
            <a:ext cx="151128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25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981000"/>
            <a:ext cx="3343320" cy="794880"/>
            <a:chOff x="4932360" y="981000"/>
            <a:chExt cx="3343320" cy="794880"/>
          </a:xfrm>
        </p:grpSpPr>
        <p:sp>
          <p:nvSpPr>
            <p:cNvPr id="135" name=""/>
            <p:cNvSpPr txBox="1"/>
            <p:nvPr/>
          </p:nvSpPr>
          <p:spPr>
            <a:xfrm>
              <a:off x="4932360" y="981000"/>
              <a:ext cx="3343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Русская правда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99240" y="131616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(П.Пестель)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80120" y="1700280"/>
            <a:ext cx="2676600" cy="764280"/>
            <a:chOff x="5280120" y="1700280"/>
            <a:chExt cx="2676600" cy="764280"/>
          </a:xfrm>
        </p:grpSpPr>
        <p:sp>
          <p:nvSpPr>
            <p:cNvPr id="138" name=""/>
            <p:cNvSpPr txBox="1"/>
            <p:nvPr/>
          </p:nvSpPr>
          <p:spPr>
            <a:xfrm>
              <a:off x="5280120" y="1700280"/>
              <a:ext cx="26766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Конституция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6520" y="2004840"/>
              <a:ext cx="183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(Н.Муравьев)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780000" y="2565360"/>
            <a:ext cx="1728720" cy="2197080"/>
            <a:chOff x="3780000" y="2565360"/>
            <a:chExt cx="1728720" cy="2197080"/>
          </a:xfrm>
        </p:grpSpPr>
        <p:sp>
          <p:nvSpPr>
            <p:cNvPr id="141" name=""/>
            <p:cNvSpPr txBox="1"/>
            <p:nvPr/>
          </p:nvSpPr>
          <p:spPr>
            <a:xfrm>
              <a:off x="3888000" y="4048200"/>
              <a:ext cx="1512720" cy="71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1861</a:t>
              </a:r>
              <a:endPara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6"/>
            <a:stretch/>
          </p:blipFill>
          <p:spPr>
            <a:xfrm>
              <a:off x="3780000" y="2565360"/>
              <a:ext cx="1728720" cy="12668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</p:grpSp>
      <p:sp>
        <p:nvSpPr>
          <p:cNvPr id="143" name=""/>
          <p:cNvSpPr txBox="1"/>
          <p:nvPr/>
        </p:nvSpPr>
        <p:spPr>
          <a:xfrm>
            <a:off x="684360" y="2852640"/>
            <a:ext cx="24336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вобод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рестья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51640" y="2852640"/>
            <a:ext cx="3419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униципаль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амоуправл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4941720"/>
            <a:ext cx="3419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емократическ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удопроизводств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4080" y="4614840"/>
            <a:ext cx="3571920" cy="1406520"/>
            <a:chOff x="5464080" y="4614840"/>
            <a:chExt cx="3571920" cy="1406520"/>
          </a:xfrm>
        </p:grpSpPr>
        <p:sp>
          <p:nvSpPr>
            <p:cNvPr id="147" name=""/>
            <p:cNvSpPr/>
            <p:nvPr/>
          </p:nvSpPr>
          <p:spPr>
            <a:xfrm>
              <a:off x="5607000" y="4614840"/>
              <a:ext cx="64908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464080" y="4973760"/>
              <a:ext cx="35719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Конституция</a:t>
              </a:r>
              <a:endPara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Лорис-Меликова</a:t>
              </a:r>
              <a:endPara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3240" y="188640"/>
            <a:ext cx="7772400" cy="58716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На пути к Конституции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1052640"/>
            <a:ext cx="20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 март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881 г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03640" y="1282680"/>
            <a:ext cx="4892760" cy="1066680"/>
            <a:chOff x="3203640" y="1282680"/>
            <a:chExt cx="4892760" cy="1066680"/>
          </a:xfrm>
        </p:grpSpPr>
        <p:sp>
          <p:nvSpPr>
            <p:cNvPr id="152" name=""/>
            <p:cNvSpPr/>
            <p:nvPr/>
          </p:nvSpPr>
          <p:spPr>
            <a:xfrm>
              <a:off x="3203640" y="1557360"/>
              <a:ext cx="1008000" cy="431640"/>
            </a:xfrm>
            <a:prstGeom prst="rightArrow">
              <a:avLst>
                <a:gd name="adj1" fmla="val 50000"/>
                <a:gd name="adj2" fmla="val 58382"/>
              </a:avLst>
            </a:prstGeom>
            <a:solidFill>
              <a:srgbClr val="99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572000" y="1282680"/>
              <a:ext cx="352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cc">
                          <a:alpha val="50196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"/>
                </a:rPr>
                <a:t>Контрреформы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cc">
                          <a:alpha val="50196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"/>
                </a:rPr>
                <a:t>Александра III</a:t>
              </a:r>
              <a:endPara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cc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971640" y="2708280"/>
            <a:ext cx="230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7 октябр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05 г.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19640" y="2565360"/>
            <a:ext cx="4968720" cy="2199240"/>
            <a:chOff x="3419640" y="2565360"/>
            <a:chExt cx="4968720" cy="2199240"/>
          </a:xfrm>
        </p:grpSpPr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4835520" y="3108240"/>
              <a:ext cx="960480" cy="11844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57" name=""/>
            <p:cNvSpPr txBox="1"/>
            <p:nvPr/>
          </p:nvSpPr>
          <p:spPr>
            <a:xfrm>
              <a:off x="6073920" y="2565360"/>
              <a:ext cx="231444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анифест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Николая II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357336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Политические 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и гражданские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права и свободы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19640" y="3141720"/>
              <a:ext cx="1081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68360" y="3933720"/>
            <a:ext cx="4174920" cy="1079640"/>
            <a:chOff x="468360" y="3933720"/>
            <a:chExt cx="4174920" cy="1079640"/>
          </a:xfrm>
        </p:grpSpPr>
        <p:sp>
          <p:nvSpPr>
            <p:cNvPr id="161" name=""/>
            <p:cNvSpPr txBox="1"/>
            <p:nvPr/>
          </p:nvSpPr>
          <p:spPr>
            <a:xfrm>
              <a:off x="468360" y="3933720"/>
              <a:ext cx="345600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cc"/>
                  </a:solidFill>
                  <a:latin typeface="Arial"/>
                </a:rPr>
                <a:t>Государственная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cc"/>
                  </a:solidFill>
                  <a:latin typeface="Arial"/>
                </a:rPr>
                <a:t>Дума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cc"/>
                </a:solidFill>
                <a:latin typeface="Arial"/>
                <a:ea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851280" y="4149720"/>
              <a:ext cx="792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63" name=""/>
          <p:cNvSpPr txBox="1"/>
          <p:nvPr/>
        </p:nvSpPr>
        <p:spPr>
          <a:xfrm>
            <a:off x="836640" y="5170320"/>
            <a:ext cx="2943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ветская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ституция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918,24,36,77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03640" y="5300640"/>
            <a:ext cx="3724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Конституция РФ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12 декабря 1993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00000" y="404640"/>
            <a:ext cx="7772400" cy="58752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Основной закон государства.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628640"/>
            <a:ext cx="7921800" cy="267516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Конституция (от лат. с</a:t>
            </a: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onstitutuo</a:t>
            </a: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 – устройство) –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основные права и обязанности граждан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00000" y="404640"/>
            <a:ext cx="7772400" cy="58752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Нормы, закреплённые в конституции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55736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нормы взаимоотношений граждан и государства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права личности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правовое равенство всех граждан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описывается характер государства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статус различных властей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правила взаимоотношения парламента, президента, правительства и суда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457200" indent="-457200"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закрепляется правовой статус человека как гражданина страны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00000" y="404640"/>
            <a:ext cx="7772400" cy="116388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Конституция РФ выступает основным законом нашей страны, её фундаментом являются международные документы, защищающие права человека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2060640"/>
            <a:ext cx="77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1948 г. – Всеобщая декларация прав человека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1950 г. – Европейская конвенция о защите прав человека и основных свобод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1959 г. – Декларация прав ребёнка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1960 г. – Международный пакт об экономических, социальных и культурных правах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1966 г. – Международный пакт о гражданских и политических правах;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Arial Narrow"/>
              </a:rPr>
              <a:t>1989 г. – Конвенция о правах ребёнка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3240" y="188640"/>
            <a:ext cx="7772400" cy="58716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Основной закон государств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7280" y="1112760"/>
            <a:ext cx="3724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Конституция РФ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</a:rPr>
              <a:t>12 декабря 1993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4520" y="1052640"/>
            <a:ext cx="27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 Narrow"/>
              </a:rPr>
              <a:t>Введение,2 раздела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 Narrow"/>
              </a:rPr>
              <a:t>137 статей,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 Narrow"/>
              </a:rPr>
              <a:t>9 положений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42920" y="2349360"/>
            <a:ext cx="7777080" cy="1224000"/>
            <a:chOff x="1042920" y="2349360"/>
            <a:chExt cx="7777080" cy="1224000"/>
          </a:xfrm>
        </p:grpSpPr>
        <p:sp>
          <p:nvSpPr>
            <p:cNvPr id="175" name=""/>
            <p:cNvSpPr/>
            <p:nvPr/>
          </p:nvSpPr>
          <p:spPr>
            <a:xfrm>
              <a:off x="1042920" y="2349360"/>
              <a:ext cx="7777080" cy="576360"/>
            </a:xfrm>
            <a:prstGeom prst="downArrowCallout">
              <a:avLst>
                <a:gd name="adj1" fmla="val -64450"/>
                <a:gd name="adj2" fmla="val 103949"/>
                <a:gd name="adj3" fmla="val 35815"/>
                <a:gd name="adj4" fmla="val 37468"/>
              </a:avLst>
            </a:prstGeom>
            <a:solidFill>
              <a:srgbClr val="ff0000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403280" y="3105000"/>
              <a:ext cx="704376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озможность поправок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5280" y="1557360"/>
            <a:ext cx="8317080" cy="2808360"/>
            <a:chOff x="395280" y="1557360"/>
            <a:chExt cx="8317080" cy="2808360"/>
          </a:xfrm>
        </p:grpSpPr>
        <p:sp>
          <p:nvSpPr>
            <p:cNvPr id="178" name=""/>
            <p:cNvSpPr/>
            <p:nvPr/>
          </p:nvSpPr>
          <p:spPr>
            <a:xfrm>
              <a:off x="395280" y="1557360"/>
              <a:ext cx="720720" cy="2808360"/>
            </a:xfrm>
            <a:custGeom>
              <a:avLst/>
              <a:gdLst>
                <a:gd name="textAreaLeft" fmla="*/ 96480 w 720720"/>
                <a:gd name="textAreaRight" fmla="*/ 624240 w 720720"/>
                <a:gd name="textAreaTop" fmla="*/ 491400 h 2808360"/>
                <a:gd name="textAreaBottom" fmla="*/ 2036160 h 28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187280" y="3573360"/>
              <a:ext cx="7525080" cy="74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Основной Закон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58920" y="4508640"/>
            <a:ext cx="4762440" cy="2016000"/>
            <a:chOff x="1258920" y="4508640"/>
            <a:chExt cx="4762440" cy="2016000"/>
          </a:xfrm>
        </p:grpSpPr>
        <p:grpSp>
          <p:nvGrpSpPr>
            <p:cNvPr id="181" name=""/>
            <p:cNvGrpSpPr/>
            <p:nvPr/>
          </p:nvGrpSpPr>
          <p:grpSpPr>
            <a:xfrm>
              <a:off x="1258920" y="4581360"/>
              <a:ext cx="1297080" cy="1943280"/>
              <a:chOff x="1258920" y="4581360"/>
              <a:chExt cx="1297080" cy="1943280"/>
            </a:xfrm>
          </p:grpSpPr>
          <p:sp>
            <p:nvSpPr>
              <p:cNvPr id="182" name=""/>
              <p:cNvSpPr/>
              <p:nvPr/>
            </p:nvSpPr>
            <p:spPr>
              <a:xfrm>
                <a:off x="1258920" y="4581360"/>
                <a:ext cx="1297080" cy="194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4724280"/>
                <a:ext cx="1119240" cy="1660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4" name=""/>
            <p:cNvSpPr txBox="1"/>
            <p:nvPr/>
          </p:nvSpPr>
          <p:spPr>
            <a:xfrm>
              <a:off x="2916360" y="4508640"/>
              <a:ext cx="3105000" cy="19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гарантируются 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вободы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личности 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53400" y="4797360"/>
            <a:ext cx="3045960" cy="1557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кроме действий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едущих к разжиганию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личных видов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енависти)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a585a"/>
                                      </p:to>
                                    </p:animClr>
                                    <p:animClr clrSpc="rgb">
                                      <p:cBhvr>
                                        <p:cTn id="128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a585a"/>
                                      </p:to>
                                    </p:animClr>
                                    <p:set>
                                      <p:cBhvr>
                                        <p:cTn id="129" dur="250" autoRev="1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3240" y="188640"/>
            <a:ext cx="7772400" cy="58716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Основной закон государств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843280" y="1989000"/>
            <a:ext cx="3724200" cy="1555200"/>
            <a:chOff x="2843280" y="1989000"/>
            <a:chExt cx="3724200" cy="1555200"/>
          </a:xfrm>
        </p:grpSpPr>
        <p:sp>
          <p:nvSpPr>
            <p:cNvPr id="188" name=""/>
            <p:cNvSpPr txBox="1"/>
            <p:nvPr/>
          </p:nvSpPr>
          <p:spPr>
            <a:xfrm>
              <a:off x="2843280" y="1989000"/>
              <a:ext cx="372420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33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Конституция РФ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3333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Arial"/>
                </a:rPr>
                <a:t>12 декабря 1993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21400" y="30844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(базируется)</a:t>
              </a:r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1176480" y="917640"/>
            <a:ext cx="2881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нравственные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ценности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70440" y="981000"/>
            <a:ext cx="288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ценности 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патриотизма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76880" y="3141720"/>
            <a:ext cx="386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ценности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международного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сотрудничеств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3149640"/>
            <a:ext cx="386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latin typeface="Impact"/>
              </a:rPr>
              <a:t>ценности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latin typeface="Impact"/>
              </a:rPr>
              <a:t>социального мира</a:t>
            </a:r>
            <a:endParaRPr b="1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11280" y="4437000"/>
            <a:ext cx="8532720" cy="1254240"/>
            <a:chOff x="611280" y="4437000"/>
            <a:chExt cx="8532720" cy="1254240"/>
          </a:xfrm>
        </p:grpSpPr>
        <p:sp>
          <p:nvSpPr>
            <p:cNvPr id="195" name=""/>
            <p:cNvSpPr/>
            <p:nvPr/>
          </p:nvSpPr>
          <p:spPr>
            <a:xfrm>
              <a:off x="611280" y="4437000"/>
              <a:ext cx="8532720" cy="647640"/>
            </a:xfrm>
            <a:prstGeom prst="downArrowCallout">
              <a:avLst>
                <a:gd name="adj1" fmla="val -28831"/>
                <a:gd name="adj2" fmla="val 75879"/>
                <a:gd name="adj3" fmla="val 42648"/>
                <a:gd name="adj4" fmla="val 35051"/>
              </a:avLst>
            </a:prstGeom>
            <a:solidFill>
              <a:srgbClr val="ff00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2124000" y="5157720"/>
              <a:ext cx="5515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ff"/>
                  </a:solidFill>
                  <a:latin typeface="Arial"/>
                </a:rPr>
                <a:t>закрепляются в статьях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68680" y="5770440"/>
            <a:ext cx="6288840" cy="8254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Признание,соблюдение и защита прав и свобод-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главная цель Конституции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260280"/>
            <a:ext cx="7772400" cy="87480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Narrow"/>
              </a:rPr>
              <a:t>Классификация основных прав, зафиксированных в Конституции РФ</a:t>
            </a:r>
            <a:r>
              <a:rPr b="0" lang="ru-RU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900000" y="1989000"/>
            <a:ext cx="172728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чные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(право на жизнь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3716280"/>
            <a:ext cx="19479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литические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(свобода слова, совести, мысли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6804000" y="1989000"/>
            <a:ext cx="1800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Гражданские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(избирательное право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716280"/>
            <a:ext cx="2160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льтурные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(на свою национальную культуру, язык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3348000" y="1989000"/>
            <a:ext cx="266400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Социально-экономические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(право на труд, отдых, образование, чистую экологию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119700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1197000"/>
            <a:ext cx="79236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763280" y="1197000"/>
            <a:ext cx="93204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1197000"/>
            <a:ext cx="649440" cy="244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627280" y="1197000"/>
            <a:ext cx="571680" cy="25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VIENNA XP</cp:lastModifiedBy>
  <dcterms:modified xsi:type="dcterms:W3CDTF">2009-12-16T07:36:56Z</dcterms:modified>
  <cp:revision>190</cp:revision>
  <dc:subject/>
  <dc:title>Презентация PowerPoint</dc:title>
</cp:coreProperties>
</file>