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D61BE-CFE5-4A67-87DD-5E619016AA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FBC39-5468-4F8D-A1EB-9D65D2834C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90B1E-B128-4ED8-BB0D-D71FE8E139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D1E54-37B3-45E5-9CBD-EA9BB6C640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49737-B465-432F-BDC2-E161C449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379F6-E414-4771-A8A0-FFAA5DD7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C02BA-6C62-4AF9-8762-7F7AC5DC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49821-D903-4783-BE7B-AAF47EE0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DE5EF-9DAB-4542-B8AB-53138E8F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E4CFC-1DB9-4284-A9F5-E3C56D67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E1984-3DCE-4A81-A9AB-C3130DFB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678FD-65C2-4B8E-B9D3-D40A1CD7FC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5048A-7088-4807-93CC-7061E428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7447E-F83B-4926-8950-DCC9A5BB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93A02-0783-4845-A2C1-5DDE5905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4E80E-80AE-4674-81FE-A5A45B03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AF352-272A-4D91-83CE-A4D63FCDE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80776-1734-4D3A-B4D4-318FBA35F2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26156-B742-4F87-866B-0EC7AFB13F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7BCF8-DAED-44D2-BD92-11BCC9A2BF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36D89-C99F-4C64-93ED-A52375E54D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04320-721B-4B08-803D-95BCEF2384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0117B-C4CE-40ED-8115-DA124E779A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5A0FA-CAB3-4260-A807-EC5F9F9F9C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463680"/>
            <a:ext cx="79956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33840" y="463680"/>
            <a:ext cx="79920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C9F6-F0A3-465E-B8BB-7B48B4BF365E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 flipH="1" rot="16200000">
            <a:off x="4824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492960" y="147600"/>
            <a:ext cx="188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518680" y="125280"/>
            <a:ext cx="539640" cy="53820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470800" y="58680"/>
            <a:ext cx="541440" cy="534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74040" y="6336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980000"/>
              </a:path>
            </a:pathLst>
          </a:custGeom>
          <a:solidFill>
            <a:srgbClr val="090a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72600" y="6336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65" y="21585"/>
                </a:moveTo>
                <a:arcTo wR="10800" hR="10800" stAng="522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1365" y="21585"/>
                </a:moveTo>
                <a:arcTo wR="10800" hR="10800" stAng="5220000" swAng="10980000"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" name="">
            <a:hlinkClick r:id="" action="ppaction://hlinkshowjump?jump=firstslide"/>
          </p:cNvPr>
          <p:cNvSpPr/>
          <p:nvPr/>
        </p:nvSpPr>
        <p:spPr>
          <a:xfrm>
            <a:off x="8555040" y="142920"/>
            <a:ext cx="378000" cy="372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" y="463680"/>
            <a:ext cx="79956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33840" y="463680"/>
            <a:ext cx="79920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1905120" y="21337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57B6-7298-48E7-9081-7FAFA7BF3260}" type="datetime">
              <a:rPr b="1" lang="ru-RU" sz="3200" spc="-1" strike="noStrike">
                <a:solidFill>
                  <a:srgbClr val="336699"/>
                </a:solidFill>
                <a:latin typeface="Arial"/>
              </a:rPr>
              <a:t>30.07.26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4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9691-AF1D-4ECE-AD62-1EAEFE716846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752480" y="2666880"/>
            <a:ext cx="73152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3366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omic Sans MS"/>
              </a:rPr>
              <a:t>Начало правления</a:t>
            </a:r>
            <a:endParaRPr b="1" lang="en-US" sz="2400" spc="1" strike="noStrike">
              <a:ln cap="sq" w="28440">
                <a:solidFill>
                  <a:srgbClr val="3366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33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Comic Sans MS"/>
              </a:rPr>
              <a:t>Ивана Грозного</a:t>
            </a:r>
            <a:endParaRPr b="1" lang="en-US" sz="2400" spc="1" strike="noStrike">
              <a:ln cap="sq" w="28440">
                <a:solidFill>
                  <a:srgbClr val="3366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33720" y="457200"/>
            <a:ext cx="6172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История Отечества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EED392-6849-4E77-BCB5-17FC956C8A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51280" y="855720"/>
            <a:ext cx="4968720" cy="34621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0a11"/>
                </a:solidFill>
                <a:latin typeface="Times New Roman"/>
              </a:rPr>
              <a:t>6.Реформы Ивана Грозного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4343040"/>
            <a:ext cx="8763120" cy="2438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Вначале Иван давал приказ выполнить пору-чение и вокруг боярина появлялись помощ-ники.Некоторые приказы стали постоянными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На  местах власть принадлежала наместникам, которые жили за счет кормлений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44280" y="1660680"/>
            <a:ext cx="180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А Иванов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В приказе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московских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времен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0a11"/>
                </a:solidFill>
                <a:latin typeface="Times New Roman"/>
              </a:rPr>
              <a:t>6.Реформы Ивана Грозного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186080" y="838080"/>
            <a:ext cx="4724640" cy="59436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Стрелецкое войско бало вооружено огнест-рельным оружием.Оно стало постоянным, но не регулярным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Царь смог избавиться от военной зависимости от бояр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1551-Стоглавый собор- объединение святых в единый пантеон,по-пытка ограничить цер-ковное землевладение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85840" y="836640"/>
            <a:ext cx="3871800" cy="46562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653040" y="5805360"/>
            <a:ext cx="290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Стрелецкое войско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Миниатюра н.17 в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4360" y="533520"/>
            <a:ext cx="7240680" cy="98568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План урока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520" y="2349360"/>
            <a:ext cx="7240320" cy="3672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6699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0a11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90a11"/>
                </a:solidFill>
                <a:latin typeface="Arial"/>
              </a:rPr>
              <a:t>.Боярское правление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Arial"/>
              </a:rPr>
              <a:t>2.Личность Ивана </a:t>
            </a:r>
            <a:r>
              <a:rPr b="1" lang="en-US" sz="3200" spc="-1" strike="noStrike">
                <a:solidFill>
                  <a:srgbClr val="090a11"/>
                </a:solidFill>
                <a:latin typeface="Arial"/>
              </a:rPr>
              <a:t>IV</a:t>
            </a:r>
            <a:r>
              <a:rPr b="1" lang="ru-RU" sz="3200" spc="-1" strike="noStrike">
                <a:solidFill>
                  <a:srgbClr val="090a11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Arial"/>
              </a:rPr>
              <a:t>3.Венчание на царство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Arial"/>
              </a:rPr>
              <a:t>4.Московское восстание 1547г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Arial"/>
              </a:rPr>
              <a:t>5.Избранная рада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Arial"/>
              </a:rPr>
              <a:t>6.Реформы Ивана Грозного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4360" y="151920"/>
            <a:ext cx="7240680" cy="986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Задание на урок.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4360" y="1599840"/>
            <a:ext cx="7240680" cy="4724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Оцените деятельность Ивана Грозного на первом этапе его правления?</a:t>
            </a:r>
            <a:endParaRPr b="1" lang="en-US" sz="5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90a11"/>
                </a:solidFill>
                <a:latin typeface="Times New Roman"/>
              </a:rPr>
              <a:t>1</a:t>
            </a:r>
            <a:r>
              <a:rPr b="1" lang="ru-RU" sz="4400" spc="-1" strike="noStrike">
                <a:solidFill>
                  <a:srgbClr val="090a11"/>
                </a:solidFill>
                <a:latin typeface="Times New Roman"/>
              </a:rPr>
              <a:t>.Боярское правление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4252680"/>
            <a:ext cx="8991360" cy="25606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Иван </a:t>
            </a:r>
            <a:r>
              <a:rPr b="1" lang="en-US" sz="2400" spc="-1" strike="noStrike">
                <a:solidFill>
                  <a:srgbClr val="090a11"/>
                </a:solidFill>
                <a:latin typeface="Arial"/>
              </a:rPr>
              <a:t>IV родился в 153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90a11"/>
                </a:solidFill>
                <a:latin typeface="Arial"/>
              </a:rPr>
              <a:t>г.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1533 г. скончался Василий </a:t>
            </a:r>
            <a:r>
              <a:rPr b="1" lang="en-US" sz="2400" spc="-1" strike="noStrike">
                <a:solidFill>
                  <a:srgbClr val="090a11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. Перед смертью он создал регентский Совет.Его чле-ны арестовали дядю Ивана-Юрия.Вскоре управление перешло к Елене Глинской.Она арестовала Андрея старицкого,провеле денежную реформу,но в 1538 г. умерла.Власть перешла к боярам.Иван</a:t>
            </a:r>
            <a:r>
              <a:rPr b="1" lang="en-US" sz="2400" spc="-1" strike="noStrike">
                <a:solidFill>
                  <a:srgbClr val="090a11"/>
                </a:solidFill>
                <a:latin typeface="Arial"/>
              </a:rPr>
              <a:t> был свидете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90a11"/>
                </a:solidFill>
                <a:latin typeface="Arial"/>
              </a:rPr>
              <a:t>лем постоянных кровавых разборок между боярами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,и в 13 лет он вынес свой 1-й смертный приговор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708360" y="836640"/>
            <a:ext cx="5111640" cy="33336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741240" y="1660680"/>
            <a:ext cx="21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М.Авилов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Царевич Иван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на прогулке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0a11"/>
                </a:solidFill>
                <a:latin typeface="Times New Roman"/>
              </a:rPr>
              <a:t>2.Личность Ивана </a:t>
            </a:r>
            <a:r>
              <a:rPr b="1" lang="en-US" sz="4400" spc="-1" strike="noStrike">
                <a:solidFill>
                  <a:srgbClr val="090a11"/>
                </a:solidFill>
                <a:latin typeface="Times New Roman"/>
              </a:rPr>
              <a:t>IV</a:t>
            </a:r>
            <a:r>
              <a:rPr b="1" lang="ru-RU" sz="4400" spc="-1" strike="noStrike">
                <a:solidFill>
                  <a:srgbClr val="090a11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355640" y="907560"/>
            <a:ext cx="4496040" cy="57294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Иван был одаренным ре-бенком.Он много читал, блестяще играл в шахма-ты и хотя не получил си-стематического образо-вания,имел знания во многих областях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Царь был отличным орато-ром,его рукописи свиде-тельствуют о писательс-ком таланте.Иван соби-рал древние книги и его библиотека считалась крупнейшей в Европе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Но все эти достоинства со-единялись с жестокос-тью,мстительностью и беспощадностью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31680" y="5697360"/>
            <a:ext cx="24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Иван Грозный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Миниатюра из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«Титулярника»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3960" y="836640"/>
            <a:ext cx="3613320" cy="48243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50920" y="4797360"/>
            <a:ext cx="8740800" cy="19843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1546 г. Иван заявил митрополиту Макарию о своем намерении венчаться на царство.Митрополит под-держал его,и 16 января 1547 г. Макарий возложил на голову Ивана шапку Мономаха.Этот шаг приравнял Ивана </a:t>
            </a:r>
            <a:r>
              <a:rPr b="1" lang="en-US" sz="2400" spc="-1" strike="noStrike">
                <a:solidFill>
                  <a:srgbClr val="090a11"/>
                </a:solidFill>
                <a:latin typeface="Arial"/>
              </a:rPr>
              <a:t>IV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 Западной Европы и Орды. В марте 1547 г. царь женился на Анастасии Захарьиной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0a11"/>
                </a:solidFill>
                <a:latin typeface="Times New Roman"/>
              </a:rPr>
              <a:t>3.Венчание на царство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000240" y="915840"/>
            <a:ext cx="5819760" cy="37371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-31680" y="1989000"/>
            <a:ext cx="288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И.Репин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Выбор невесты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для великого князя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03640" y="785880"/>
            <a:ext cx="5545080" cy="34002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50920" y="4220640"/>
            <a:ext cx="8740800" cy="25606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Боярское правление разорило население.В июне 1547 г. в Москве в результате пожаро сгорело 25 тыс.до-мов.В пожаре обвинили Анну Глинскую-бабку царя. Толпа ворвалась в Кремль и потребовала выдать Глинских.Юрий был убит, а царь укрылся в Воробь-ево.Когда восставшие успокоились Иван</a:t>
            </a:r>
            <a:r>
              <a:rPr b="1" lang="en-US" sz="2400" spc="-1" strike="noStrike">
                <a:solidFill>
                  <a:srgbClr val="090a11"/>
                </a:solidFill>
                <a:latin typeface="Arial"/>
              </a:rPr>
              <a:t> IV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 жестоко с ними расправился, но убедился в необходимости реформ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0a11"/>
                </a:solidFill>
                <a:latin typeface="Times New Roman"/>
              </a:rPr>
              <a:t>4.Московское восстание 1547г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2000" y="2101680"/>
            <a:ext cx="163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Москва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в сер. 16 в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267080" y="838080"/>
            <a:ext cx="4724640" cy="59436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В к. 40-х гг. в при царе появилась Избранная рада(А.Адашев,Силь-вестр,А.Курбский и др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При ее участии Иван на-чал реформы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1549-созыв Земского со-бора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1550-Судебник(подтвер-ждение Юрьева дня)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1550-начало создания стрелецкого войска.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0a11"/>
                </a:solidFill>
                <a:latin typeface="Times New Roman"/>
              </a:rPr>
              <a:t>5.Избранная рада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01080" y="5805360"/>
            <a:ext cx="278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«Государев совет»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Миниатюра 16 в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9640" y="861840"/>
            <a:ext cx="3494160" cy="47278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320" y="4292640"/>
            <a:ext cx="8991360" cy="24890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сер 16 в. на Руси сложился новый порядок государст-венного управления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При царе стоял двор из потомков удельных князей и бояр.В Подмосковье царь расположил гвардию- «Изб-ранную тысячу».При царе стали формироваться орга-ны гос. власти-приказы. 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0a11"/>
                </a:solidFill>
                <a:latin typeface="Times New Roman"/>
              </a:rPr>
              <a:t>6.Реформы Ивана Грозного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24360" y="830160"/>
            <a:ext cx="4824360" cy="33908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1096560" y="1805040"/>
            <a:ext cx="159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А.Иванов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Смотр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служилых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людей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2T15:12:29Z</dcterms:created>
  <dc:creator>Чернов Алексей</dc:creator>
  <dc:description/>
  <dc:language>en-US</dc:language>
  <cp:lastModifiedBy>Чернов Алексей</cp:lastModifiedBy>
  <cp:lastPrinted>1997-01-19T19:09:28Z</cp:lastPrinted>
  <dcterms:modified xsi:type="dcterms:W3CDTF">2002-08-22T12:31:21Z</dcterms:modified>
  <cp:revision>71</cp:revision>
  <dc:subject/>
  <dc:title>Заголовок слайда отсутствует</dc:title>
</cp:coreProperties>
</file>