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FDD-0432-4031-8303-AF5532C2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3FB-20AD-4DA1-B823-67889531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A93-2C77-4A75-BE09-3DA5DDE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620-BD60-40E5-9C5E-C8F417A9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EE2A-8268-4111-999C-21C2931A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D894-8324-407F-8BA5-66B8E03F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87D8-EEEC-4D69-BB6B-517AECF8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0E1C-AFE2-4FFE-AA12-61AB89D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E3F9-EF54-442B-98C2-378BEEEB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FD6-8DEC-4B06-88BA-7D95B44A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5570-40E5-4B87-BA5D-0C4567D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4D3-5062-49D3-8705-43073C1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F884-04D4-44F2-A675-A01D5BA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944-BC8F-4185-B554-3365D74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9FD-7E3B-4337-BB74-C1B282F1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7C7B-CE6B-4E46-9D5A-9D29CE97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A5AB-4F45-4EE8-8B8F-B0019E7C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1F7-E1BF-4868-86CA-C9BEDC0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5FC-974D-4DB5-890F-A6B407E8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0F3-AFFD-4A6C-8946-11D878B2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CBC-ADA4-4378-AD89-26EA7B6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50F-186A-4A06-9458-2F23CFA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FCC-EAAE-4307-93CC-3F78803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B5D-2B62-4565-8A87-79DADA2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2DAC-480F-4E02-9992-7A1941E3C69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9EF3-62E2-4F0C-B726-6023D3B4DC5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Образовани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Цели урока: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266720" y="3429000"/>
            <a:ext cx="6858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1484280"/>
            <a:ext cx="7058160" cy="93492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1557360"/>
            <a:ext cx="63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Добиться усвоения учащимися основных понятий уро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708280"/>
            <a:ext cx="7058160" cy="93492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2781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Дать характеристику основным историческим этапам и типам развития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3933720"/>
            <a:ext cx="7058160" cy="93528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400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скрыть основные права и обязанности учени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5157720"/>
            <a:ext cx="7058160" cy="93528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1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бъяснить, какова роль образования в жизни современного общества 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пиграф к уроку: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268280"/>
            <a:ext cx="7346880" cy="151308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227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1280" y="278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. Заболоц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213000"/>
            <a:ext cx="769932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154400"/>
            <a:ext cx="7346880" cy="93528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4148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История развития школы. Образование и его                            роль в жизни человека и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5300640"/>
            <a:ext cx="7346880" cy="93492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5482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бразование в современной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134136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позволяй душе лениться! Чтоб в ступе воду не толочь, Душа обязана трудиться       И день и ночь, и день и ноч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65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 – это целенаправленный процесс воспитания и обучения в интересах человека, общества и государства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341360"/>
            <a:ext cx="74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341360"/>
            <a:ext cx="7632720" cy="79236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341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образования – передать потомкам свод знаний, разработанный пред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349360"/>
            <a:ext cx="7632720" cy="71928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2349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е документы: Конституция РФ, Закон РФ «Об образован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005360"/>
            <a:ext cx="2016360" cy="1582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 – важнейший институт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7480" y="3357720"/>
            <a:ext cx="3384720" cy="36036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8400" y="3357720"/>
            <a:ext cx="40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7480" y="3860640"/>
            <a:ext cx="3384720" cy="863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68760" y="386064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альные и городские департаменты образования на мест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7480" y="4869000"/>
            <a:ext cx="3384720" cy="647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68760" y="4869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ы, лицеи, гимназии, колледжи, ВУ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5661000"/>
            <a:ext cx="3384720" cy="647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8760" y="5661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щиеся, студенты, преподава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58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ключа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щее образов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1268280"/>
            <a:ext cx="7346880" cy="230508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26576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образование – процесс овладения элементарным уровнем научных знаний, необходимых для понимания основных явлений природы и общества, участия в общественной и трудовой деятельности, основа для получения профессионального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3860640"/>
            <a:ext cx="7346880" cy="18734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414792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а – начальный тип учебно-воспитательного учреждения (содержится на средства государства или частных лиц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Типы шко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052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характеру сообщаемых зн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484280"/>
            <a:ext cx="7632720" cy="57636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48428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образователь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71640" y="17002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2133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уровню образова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2565360"/>
            <a:ext cx="7632720" cy="1079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256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ально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2781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лное средне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299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е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3213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ше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997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е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7162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отношению к религ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4149720"/>
            <a:ext cx="7632720" cy="647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41497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т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436572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игиоз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4869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е получения зн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5373720"/>
            <a:ext cx="7632720" cy="647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3737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558972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т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Жизнь современной школы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16286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живёт по Уставу (первый был принят в 1786 году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95640" y="112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2133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уководит директо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565360"/>
            <a:ext cx="56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чителя ведут уроки по предмет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2997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бщие вопросы решаются на педагогическом совет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350028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ченик, закончив обучение и сдав экзамены,  получает аттестат, а особо отличившиеся – золотые и серебренные меда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4581360"/>
            <a:ext cx="65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о многих школах действует попечительский совет, оказывающий школе финансовую поддерж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ченик – юридический статус ребёнка, получающего общее образование (1-11 классов)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1125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ченик имеет пра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лучения бесплатного образ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1557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ет право учиться в школе по месту житель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8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жет переходить из одной школы в друг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421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жет свободно выражать своё м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2852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ченик обяза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облюдать определённые пра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3141720"/>
            <a:ext cx="47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щать уроки;                                                       не прогуливать;                                        не опаздывать;                                 выполнять требования учителя; соблюдать дисциплину.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472608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ченик, достигший 14 лет, грубо нарушивший школьный Устав, может быть исключён. Такое решение выносит орган управления школой, с согласия Комиссии по делам несовершеннолетн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59500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к на платной основе может получить дополнительное образ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ние в современной России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1484280"/>
            <a:ext cx="2376720" cy="43200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2565360"/>
            <a:ext cx="2521080" cy="144000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2637000"/>
            <a:ext cx="244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е школьное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- начальное;            - неполное среднее; - сре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4581360"/>
            <a:ext cx="2376720" cy="43200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1484280"/>
            <a:ext cx="3097440" cy="43200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енный инстит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2276640"/>
            <a:ext cx="2376720" cy="431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2995560"/>
            <a:ext cx="2376720" cy="43200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3716280"/>
            <a:ext cx="2376720" cy="43200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вы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4508640"/>
            <a:ext cx="3097440" cy="93492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ы челове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жизни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5589720"/>
            <a:ext cx="2376720" cy="431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ш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5589720"/>
            <a:ext cx="2376720" cy="431640"/>
          </a:xfrm>
          <a:prstGeom prst="rect">
            <a:avLst/>
          </a:prstGeom>
          <a:solidFill>
            <a:srgbClr val="cc98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вузовск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203640" y="105264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105264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708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42900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4149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191628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4005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013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924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Серёга</cp:lastModifiedBy>
  <dcterms:modified xsi:type="dcterms:W3CDTF">2009-05-06T14:02:44Z</dcterms:modified>
  <cp:revision>93</cp:revision>
  <dc:subject/>
  <dc:title>ОСОБЕННОСТИ ДРЕВНИХ ЦИВИЛИЗАЦИЙ.</dc:title>
</cp:coreProperties>
</file>