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C8C-90E4-4D9C-9295-81CE1686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87B-2DCD-4C47-9A55-79485A6E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4D8-8014-4F5A-B53E-00563A9D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598-C2A8-439F-87BF-FF1E9A1B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B85-A6C6-423F-BB4D-5A27A2E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89C-F976-43FC-81CB-D3C0809A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F352-8637-4DC7-9C8F-F8F2C189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05C6-D380-4716-B5F4-1612D10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C5E-1CCD-4DC9-BA03-5E9AE05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0A0-3539-49D6-93C5-9BAF7E02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BADE-0162-4096-910D-6B6CE66D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C73-5EAB-4A69-8DFA-E9AF3610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DF74-0271-42CE-9FD1-A8B4C9E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B7F7-8977-47B1-827B-3BD8DF2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B303-BB53-4706-BBAE-7C40C05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F75-F329-480D-B4D9-1BFDA733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9EA-CD12-4D6F-ACEF-684F976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9EE-841D-44AB-8A3A-95DB4589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DA8-12F1-471F-83B8-5A91A4A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080-F267-4AC3-BD51-1FE7074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BAD-5F8D-4BA8-8F8A-9FBCA10E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899-2216-4F3F-86BB-772A6E5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3C5-A4A9-4BB8-8AA1-085E8C2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25F-1B15-4E4A-9B04-0E51274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BD2-2AF9-4D7B-B7C0-9581A8BDB6F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5A9-A068-41CF-B002-1FFFD4ED4F0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1628640"/>
            <a:ext cx="772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Номинация: «Лучшая методическая разработка»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Тема: «Правовое воспитание школьников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414972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4292640"/>
            <a:ext cx="39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учевникова Нина Валерь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АУ «СОШ №54 г.Орс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6165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ск,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0464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городской смотр-конкур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новационной деятельности классных руков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овременный классный руководитель-2012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2. Классный час «Нет прав без обязанностей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256536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язанности человека делятся на четыре род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язанности перед самим соб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д семь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д государст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д другими людь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ег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1268280"/>
            <a:ext cx="72738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БЯЗАННОСТЬ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– ЭТО УСТАНОВЛЕННАЯ ОБЩЕСТВОМ И ГОСУДАРСТВОМ НЕОБХОДИМОСТЬ ВЕСТИ СЕБЯ ОПРЕДЕЛЕННЫМ ОБРАЗ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2000" y="5084640"/>
            <a:ext cx="727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РАВА И СВОБОД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КА И ГРАЖДАНИНА ВОЗМОЖНЫ ТОЛЬКО ПРИ ОСУЩЕСТВЛЕНИИ КАЖДЫМ СВОИХ ОБЯЗАНН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Игра 1. «Нет прав без обязанностей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484280"/>
            <a:ext cx="8064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итча «Как горели деньг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астало время сыну позаботиться о больных родителях, но он совершенно не был приучен ни к чему полезному. Отец сказал: «Будешь учиться кузнечному делу в моей кузнице». За сына вступилась мать: «Сам больной, сына надо поберечь, найдем ему работу полегче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йком от отца она давала сыну каждый день немного денег. Вечером довольный, отдохнувший сын приходил домой и вручал деньги отцу. Отец брал их и тут же бросал в огонь. Сын спокойно вместе со всеми садился за стол ужинать. Так продолжалось до тех пор, пока у матери не закончился запас денег. Пришлось сыну по-настоящему начать работать. В первый же день уставший, грязный, он протянул отцу заработанные деньги, и отец бросил их в огонь. Сын мгновенно выхватил из огня горящие деньг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ему изменилось поведение сына, когда отец бросил заработанные сыном деньги в огонь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 не учитывала мать в воспитании сын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ими правами пользовался сын, и какие обязанности он не выполня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ословицы и поговорки о единстве прав и обязанностей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628640"/>
            <a:ext cx="8064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ез труда не вытащишь и рыбку из пруда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ак аукнется, так и откликнетс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д лежачий камень вода не течет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Ч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то посеешь, то и пожнешь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 Тришке и кафтан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юбишь кататься, люби и саночки возить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лг платежом красен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е плюй в колодец, пригодится воды напитьс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онституционная обязанность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628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онституционная обязанност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это установленная Российским государством в интересах всех членов общества и закрепленная в Конституции необходимость, предписывающая гражданину опреде­ленный вид поведения и ответственность в случае его неисполн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оме конституционных обязанностей, человек должен выполнять обязанности дома, в школе, в общественных местах и т. 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ставьте список своих обязанностей в школе и д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Игра 2. «Необязательный человек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413000"/>
            <a:ext cx="80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итча «Гвоздь воспитания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динственный сын отбился от рук. Испытав все способы влияния, отец придумал, наконец, вот что: вкопал против дома столб, и после каждого проступка сына вбивал в этот столб гвоз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ошло некоторое время, и на столбе не осталось живого места – весь он был утыкан гвоздя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та картина поразила воображение подростка. Тогда за каждый хороший поступок отец стал вытаскивать по одному гвоздю. И вот наступил торжественный момент: последний гвоздь вытащен из столба. Но на сына это произвело совсем неожиданное впечатление: он горько заплак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 же ты плачешь? - спросил отец. - Ведь гвоздей на столбе больше н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воздей нет, а дырки остались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просы для обсу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символизировали вбитые в столб гвозд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мальчик заплака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Материал для размышления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119700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 с детьми фрагмента сказки Антуана де Сент-Экзюпери «Маленький принц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13372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нтрольны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значит быть в ответе за других? За кого ты в отв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о называют безответственным человек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такое обязан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 человек должен нести обязан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ведите примеры, подтверждающие выражение: «Нет прав без обязанносте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72428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ЗАПОМН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клонение граждан от выполнения обязанностей дает право государству применять по отношению к ним различные, предусмотренные законом меры наказания, что, в частности, может привести к ограничению прав и свобод гражд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3. Родительское собрание: «Закон и ответственность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141300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ворот дороги – это еще не конец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ще вы можете поверну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. Родже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накомить родителей учащихся со статьями уголовно­го права, которые определяют меру ответственности подростков и взрослых за противозаконные действ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ть возможность ро­дителям получить интересующую их информацию из компетент­ных источ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орма провед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чер вопросов и отве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опросы для обсужд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вые нормы, гражданская позиция школь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Ход собрания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141300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ступительное сл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редставление гостей веч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Анализ анкетирован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бсуждение вопросов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Материалы статистики правоохранительных органов о правонарушениях подростков в го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Выступление социального педагога и психо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Подведение ит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Приложение «Словарь гражданина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413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авонарушени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нарушение определенных норм пра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головное прав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юридические нормы, законы, которые предназна­чены для борьбы с преступлен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у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орган государства, рассматривающий гражданские, уголовные и другие д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кон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правовой акт, основа всех юридических документов, регла­ментирующий жизнь всех членов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ора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совокупность правил поведения людей в обществе, семье, малых груп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ав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совокупность обязательных правил, которые устанавливает и контролирует государ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777080" cy="36036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f731"/>
                </a:solidFill>
                <a:latin typeface="Times New Roman"/>
              </a:rPr>
              <a:t>Список использованных источников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981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836640"/>
            <a:ext cx="74901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кресенская Н., Шехтер С. Гражданское образование: содержание и активные методы обучения / под ред. H. Воскре­сенской и С. Шехтера; при участии А. Иоффе и И. Уайта; Межрегиональная ассоциация «За гражданское образование»; фонд «Сивнтас». - Москва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спитательная работа в школе : Журна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реклеева Н. И. Новые родительские собрания: 10-11 классы. Москва : Издательство «ВАКО», 2006. – 208 с. - ISBN 5-94665-530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РФ 19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пылов Е.А. Гражданская позиция школьника. - М., 1996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неева Т. А. Внеклассные мероприятия по обществознанию. 8-11 классы. Классные часы, общешкольные мероприятия. Москва : Издательство «Глобус», 2008. – 252 с. - ISBN 978-5-9928-0044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ксимцева Т. А. Воспитываем гражданина : Учебное пособие. Волгоград : Издателство «Панорама», 2006. – 80 с. - ISBN 5-9666-0023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сьмо Министерства образования РФ «О гражданском образовании учащихся обще­образовательных учреждений Российской Федерации» от 15 января 2003 г. № 13-51-08 /1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мид Р. Групповая работа с детьми и подростками. – М., 19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епанько С. Н. Обществознание: 8-9 классы : Элективный курс «Подросток и закон». Волгоград : Издательсвто «Учитель», 2007. – 239 с. - ISBN 5-7057-0935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ухарев А. Я. Большой юридический словарь / под ред. А.Я. Сухарева, В.Д. Зорькина, В. Е. Крутских. – М.: Инфра – М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лькович Т. А., Шупина Т. И. По законам добра: Изучаем Конституцию Российской Федерации. – Москва : Издательство «5 за знания», 2006. – 144 с. - ISBN 5-98923-044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ttp://schools.pp.ru – сообщество социальных педагогов по правовому воспитанию школь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03640" y="227664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знать можно лишь тогда, когда учишьс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ойти можно лишь тогда, когда идёш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Вьетнамская послов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29433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Каким видит общество и государство выпускника школы?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41300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Школа со­вместно с семьей должна воспитать личность,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пособну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о принимать решения и делать осознанный выбо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вечать за свои решения и поступ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умно действовать в самых непредвиденных и непредсказуемых ситу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себя и своих близки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ладать навыками учения и самообуч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ладать компетенциями, необходимыми в самых различ­ных отраслях зна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дентифицировать себя как носителя национальной культу­ры, гражданина своей страны и как гражданина ми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ходить разумный компромисс при решении проблем, воз­никающих в социу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Цель и задачи проекта 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26828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ью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данного проекта является воспитание ответственной личности, активно участвующей в общественной жизни своей стр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ект призван решить следующие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и гражданской грамотности через изучение норм общественной жизни, законов, ее регулирующи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витие у подростков социальной активности, же­лания участвовать в преобразованиях окружающей жизн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 девиантного поведения подростка посредством формирования твердого убеждения, что прав не существует без обязан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активной гражданской позиции и осознание приоритета прав ли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f731"/>
                </a:solidFill>
                <a:latin typeface="Times New Roman"/>
              </a:rPr>
              <a:t>Участники и партнеры, ожидаемые результаты проекта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413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Участниками и партнера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проекта являются: учащиеся, их родители, учителя, классный руководитель, социальный педагог и психолог школы, администрация школы, представители детской комнаты милиции, комиссии по делам несовершеннолетн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жидаемыми результатам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реализации проекта явля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у учащихся правовой культуры и гражданской грамот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активной гражданской позиции уча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ктивное включение семьи в воспитательный процесс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ля достижения ожидаемых результатов реализации, автор проекта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предлагае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проведение классных часов в игровой форме и родительских собраний на протяжении учебного года. Автор считает, что представленные методические разработки будут способствовать достижению главной цели проек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1. Классный час «Юный правовед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41300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оздать условия для активизации познавательной активности обучающихся к изучению темы, посвящённой правовым основам об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правовой культу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активную гражданскую позици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вивать аналитическое мышление, умение выделять приоритетные свойства явл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а проведения: командная иг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онкурсы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1557360"/>
            <a:ext cx="80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Размин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Ценности демократ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Права челове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Правовые заморочк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Преступление и наказ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тветственность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сякая всячин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Документ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Анкета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62864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равился ли тебе классный час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л ли ты более чётко разбираться в понятиях и проблемах, затронутых сегод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ного ли тебе это дал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ожешь ли ты в дальнейшем применить данные зна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е бы ещё проблемы ты хотел обсудить на классном час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2. Классный час «Нет прав без обязанностей»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41300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способствовать формированию убежденности в том, что «каждый человек имеет обязанности перед обществом, в котором только и возможно свободное и полное развитие его личност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конституционными обязанно­стями в Российской Федер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ответственности за свое будуще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навыков нравственного и законопослушного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User</cp:lastModifiedBy>
  <dcterms:modified xsi:type="dcterms:W3CDTF">2012-03-10T18:40:10Z</dcterms:modified>
  <cp:revision>106</cp:revision>
  <dc:subject/>
  <dc:title>ОСОБЕННОСТИ ДРЕВНИХ ЦИВИЛИЗАЦИЙ.</dc:title>
</cp:coreProperties>
</file>