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7F29-439C-4098-B0D2-781DA490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5DA-1096-4AF8-8A18-6CB60380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44CC-0FFD-4EDD-9CF7-952F5728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A15-634D-491B-8DE9-BFC30708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42FE-95DF-4118-AE78-30B7EDCC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5FAA-7BA6-4C0B-837F-27B0EF29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F761-C460-469B-B40C-B5FAF8F3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4F22-26C8-4A6E-B749-B079AD9F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5DF0-D819-4B02-9CBB-394F649D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7406-F0CA-4CFE-9970-74EE6628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FD63-916A-4BE1-BDAB-38C37D5E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0945-AD6F-4D32-AA5B-D6E7B168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38CA-FEAF-4F96-8B44-C82A1C8C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C455-DDD6-48A9-809C-E0E9D0B3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2F57-F198-4A78-AAA2-733B17DD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83AB-0A0C-4226-8F69-6A9BB7B1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D6DC-1F96-4C24-8B95-1575E54E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71C1-3E74-49BC-A20D-AC6A193A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EB30-10AD-48CD-8643-E3C3C565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C1A5-7B44-4865-8498-02C2F48D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146F-32CC-4203-9E42-FCD6F4CC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2928-3DFA-4E3C-9FDC-1CA8D87A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27AF-BA0B-4DF2-B69F-495FD646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5BE1-F8FA-443B-954B-F64E4812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7115-C188-4696-89BC-6316E5B845AC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1F85-3931-4F1C-8D93-A2A59A6B5B6D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99640" y="17730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Творческая мастерская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Тема: «Работа с заданиями на сравнение исторических событий и явлений как фактор успешной подготовки к ЕГЭ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4149720"/>
            <a:ext cx="295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00720" y="4149720"/>
            <a:ext cx="374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учевникова Н.В.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итель истор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АУ «СОШ №54 г.Орск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67280" y="616572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рск,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72400" cy="43200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f731"/>
                </a:solidFill>
                <a:latin typeface="Times New Roman"/>
              </a:rPr>
              <a:t>Алгоритм решения заданий на сравнение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2920" y="836640"/>
            <a:ext cx="7921800" cy="57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Алгоритм – система операций, применяемых по строго определенным правилам, которая после последовательного их выполнения приводит к решению поставленной задачи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1. Внимательно прочитать задание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2. Переструктурировать текст задания в опорную схему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2.1. вычленить объект сравнительной характеристики и его объекты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2.2. при необходимости перевести их параметры в единую знаковую систему (хронологические рамки, словесные характеристики, символы-маркеры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2.3. найти логическое или историческое основание для объединения двух однородных фактов в единый процесс или явление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2.4. проанализировать событие, разделяющего 2 компонента сравнительной характеристики, с точки зрения его влияния на них (реформа, война, смена правителя и т.п.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2.5. указать, сколько общих характеристик требуется выявить в процессе сравнения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2.6. указать, сколько различий требуется выявить в процессе сравнения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2.7. выделить или сформулировать самостоятельно линии (вопросы для) сравнения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3. Вспомнить, что вам известно по каждому из вопросов сравнительной характеристики, заполнить сравнительную таблицу по направлениям «Общее» и «Различия»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4. Познакомиться с критериями оценивания заданий с развернутым ответом. Сравнить эталон ответа со своим вариантом по следующим линиям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4.1. общие черты двух однородных фактов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4.2. различия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4.3. формулировки «общих признаков». Они должны быть максимально точными и обобщёнными, лаконичными в передаче сути сходства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4.4. формулировки различий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72400" cy="43200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f731"/>
                </a:solidFill>
                <a:latin typeface="Times New Roman"/>
              </a:rPr>
              <a:t>Памятки для анализа исторической информации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765000"/>
            <a:ext cx="792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амятка – учебное пособие, помогающее в определенной последовательности образно воссоздать исторический факт или раскрыть его внутренние существенные стороны. Памятка представляет собой перечень вопросов и заданий, расчленяющих сложный учебный прием на несколько более простых операц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2133720"/>
            <a:ext cx="7921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1) Памятка для анализа геополитического положения стра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2) Памятка для анализа экономического развития стра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3) Памятка для анализа социального положения стра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4) Памятка для анализа политического положения стра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5) Памятка для анализа внешней политики стра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6) Памятка для анализа политических партий, движений и их програм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7) Памятка для анализа общественных движений (политических, социальных, национальны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8) Памятка для анализа идейных течений (общественной мысл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9) Памятка для анализа войн, сражений, вооруженных конфлик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10) Памятка для анализа культурного развития общества, государ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11) Памятка для анализа произведений искус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12) Памятка для анализа деятельности исторических личност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777080" cy="6476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f731"/>
                </a:solidFill>
                <a:latin typeface="Times New Roman"/>
              </a:rPr>
              <a:t>Модели ответов и варианты построения аргументации в заданиях с открытыми ответами на сравнение исторических событий и явлений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09960" y="1053360"/>
            <a:ext cx="72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клас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Наша Родина в древност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равните родовую и соседскую общины. Ответ оформите в виде таблиц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332000" y="2060640"/>
          <a:ext cx="7416720" cy="3673440"/>
        </p:xfrm>
        <a:graphic>
          <a:graphicData uri="http://schemas.openxmlformats.org/drawingml/2006/table">
            <a:tbl>
              <a:tblPr/>
              <a:tblGrid>
                <a:gridCol w="3708360"/>
                <a:gridCol w="3708360"/>
              </a:tblGrid>
              <a:tr h="6793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90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 собственности всех общинников находились пастбище, леса, рек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овместно решались хозяйственные вопрос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овместно осуществлялась защита от враг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ая общ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едская общ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ъединяла кровных родственни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одичи совместно трудились, имущество было общи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ъединяла всех, проживающих на одной территор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аждая семья вела хозяйство самостоятель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6526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f731"/>
                </a:solidFill>
                <a:latin typeface="Times New Roman"/>
              </a:rPr>
              <a:t>Модели ответов и варианты построения аргументации в заданиях с открытыми ответами на сравнение исторических событий и явлений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65880" y="1126800"/>
            <a:ext cx="8170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ас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ма: «Россия в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V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начале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V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вв.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то было общего и в чем различие в политике Ивана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и политике Ивана Грозного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вет оформите в виде таблиц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42920" y="2276640"/>
          <a:ext cx="7772400" cy="40017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373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3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Укрепление центральной вла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еспечение безопасности границ государ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Расширение территории государ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ка Иван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ка Ивана Гроз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</a:tr>
              <a:tr h="169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Террор в политике Иван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е играл главенствующей ро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Деспотизм личной власти великого князя выступал скорее в качестве тенден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 борьбе с остатками феодальной раздробленности в ходе опричнины Иван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пирался на насил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ласть царя приобрела самодержавный характе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777080" cy="6476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f731"/>
                </a:solidFill>
                <a:latin typeface="Times New Roman"/>
              </a:rPr>
              <a:t>Модели ответов и варианты построения аргументации в заданиях с открытыми ответами на сравнение исторических событий и явлений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2400" y="979560"/>
            <a:ext cx="8529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Россия в первой четверт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равните программные документы декабристов «Русская правда» Павла Пестеля и «Конституция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иты Муравьева. Укажите, что было общим, а что различным. Ответ оформите в виде таблиц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16000" y="1989000"/>
          <a:ext cx="7705800" cy="4707000"/>
        </p:xfrm>
        <a:graphic>
          <a:graphicData uri="http://schemas.openxmlformats.org/drawingml/2006/table">
            <a:tbl>
              <a:tblPr/>
              <a:tblGrid>
                <a:gridCol w="3852720"/>
                <a:gridCol w="3853080"/>
              </a:tblGrid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Уничтожение крепостного пра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Ликвидация военных поселе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Введение воинской повин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ничтожение сослов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Введение свободы слова, печати, вероисповедания, занят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Неприкосновенность лич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Равный с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усская правд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онституция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Форма правления: республика с одномандатным парламент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Административно-территориальное устройство России: унитарное государств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тношение к помещичьему землевладению: ограничение помещичьего землевладения (разделение земли на 2 части – частную и общественную, которая не подлежала купле-продаж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Форма правления: конституционная монархия с двухпалатным парламент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Административно-территориальное устройство России: федеративное государств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тношение к помещичьему землевладению: сохранение помещичьего землевладения, наделение крестьян небольшими наделами земли на условиях арен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77080" cy="57600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f731"/>
                </a:solidFill>
                <a:latin typeface="Times New Roman"/>
              </a:rPr>
              <a:t>Модели ответов и варианты построения аргументации в заданиях с открытыми ответами на сравнение исторических событий и явлений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48720" y="764640"/>
            <a:ext cx="6316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11 клас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СССР, Россия в 1985 г.-начале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I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равните цели, методы, итоги политических и экономических реформ, проводимых Горбачевым М. С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торой половине 1980-х гг. и Б. Н. Ельциным в начале 1990-х гг. Укажите, что было общим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что различным. Ответ оформите в виде таблицы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42920" y="1628640"/>
          <a:ext cx="7850160" cy="5021280"/>
        </p:xfrm>
        <a:graphic>
          <a:graphicData uri="http://schemas.openxmlformats.org/drawingml/2006/table">
            <a:tbl>
              <a:tblPr/>
              <a:tblGrid>
                <a:gridCol w="3925800"/>
                <a:gridCol w="3924360"/>
              </a:tblGrid>
              <a:tr h="2462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7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ремление предотвратить углубление кризиса в стран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острение кризисных явлений в экономической сфере жизни обществ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тсутствие четкой программы реформ, непоследовательность в их проведени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Нестабильность, стихийность, кризисность социально-политических процессо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Высокая социальная «цена» рефор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тверждение приоритета общечеловеческих ценностей над интересами классо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Отказ от силовых решений спорных межгосударственных противоречи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Стремление ликвидировать противостояние сверхдержав и установить новый мировой порядок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, методы, итоги политических и экономических реформ, проводимых Горбачевым М. С. во второй половине 1980-х гг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, методы, итоги политических и экономических реформ, проводимых Б. Н. Ельциным в начале 1990-х г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</a:tr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Устранение недостатков, выявление резервов советского строя и совершенствование общественного строя на базе социалистических ценносте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огружение страны в системный кризис, резкое падение жизненного уровня населени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епоследовательность, половинчатость, нерешительность, частые смены курс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ри демократизации советского командно-административного социализма базовые тоталитарные черты политической системы сохранялись (однопартийность, неприятие плюрализма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Заложены предпосылки к изменению государственно-политической системы в дальнейшем развитии страны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Ускоренное преобразование общественного строя на демократических, рыночных основах, создание правового государства и гражданского обществ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Ликвидация товарного дефицита, изменение иждивенческой психологии граждан, формирование предпринимательского сло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тремительный переход к рыночной экономике («шокотерапия»), игнорирование российских особенностей, неоправданные надежды на помощь Запад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олное разрушение советской общественной системы, либеральные идеология и система власти (президентская республика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Разрушены основы командной экономики, формировалась новая модель общественного устройств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77080" cy="57600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f731"/>
                </a:solidFill>
                <a:latin typeface="Times New Roman"/>
              </a:rPr>
              <a:t>Модели ответов и варианты построения аргументации в заданиях с открытыми ответами на сравнение исторических событий и явлений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764640"/>
            <a:ext cx="7704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клас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Россия в XIX в.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Сравните последствия (итоги, результаты) Крымской войны 1853–1856 гг. и русско-турецкой войны 1877–1878 гг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нутреннего и внешнеполитического положения России. Укажите, что было общим, а что – различным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ответ в форме таблицы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87280" y="1628640"/>
          <a:ext cx="7705800" cy="4884840"/>
        </p:xfrm>
        <a:graphic>
          <a:graphicData uri="http://schemas.openxmlformats.org/drawingml/2006/table">
            <a:tbl>
              <a:tblPr/>
              <a:tblGrid>
                <a:gridCol w="3853080"/>
                <a:gridCol w="3852720"/>
              </a:tblGrid>
              <a:tr h="4287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2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пасность дипломатической изоляции Росси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слабление экономики Росси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стощение финансов Росси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Недовольство представителей русского общества (И.С. Аксакова, Ф.М. Достоевского и др.) итогами войны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для России Крымской войны 1853–1856 г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для России русско-турецкой войны 1877–1878 г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</a:tr>
              <a:tr h="278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оенное поражение Росси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Нейтральный статус (нейтрализация) Чёрного моря (запрещение России  иметь военный флот, крепостные сооружения и арсеналы на Чёрном море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 международной арене сложилась расстановка сил, получившая название Крымской системы (имевшей антироссийскую направленность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слаблена позиция России на Балканском полуострове (Россия была лишена права единоличного покровительства Сербии и Дунайским княжествам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Карс переходил под власть Турци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словия Парижского мира (1856 г.) не отражали всей глубины военного и дипломатического поражения России (благодаря дипломатии А.Ф. Орлова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Поражение России вынудило Александра II приступить к реформа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обеда России в войн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Берлинский трактат подтверждал отмену нейтрализации Чёрного моря (в соответствии  с Лондонской конвенцией 1871 г.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тоги русско-турецкой войны нанесли ущерб «Союзу трёх императоров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силился авторитет России среди народов Балканского полуостров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Карс, Ардаган, Батум закреплялись за Россие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Решения Берлинского конгресса 1878 г. уменьшили значение военных побед Росси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Александр II отказался от реформаторской политики (в конце 1870-х гг.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777080" cy="360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f731"/>
                </a:solidFill>
                <a:latin typeface="Times New Roman"/>
              </a:rPr>
              <a:t>Список использованных источников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98100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907920"/>
            <a:ext cx="749016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лексашкина Л. Н. История. 9 класс : Учебное пособие. М. : Экзамен, 2007 - ISBN 5-472-02604-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яземский Е. Е., Стрелова О. Ю. Историческое образование в современной России : Справочно-методическое пособие.  М. : Русское слово, 1997 – ISBN 5-7233-0225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яземский Е. Е., Стрелова О. Ю. Теория и методика преподавания истории в школе : Учебник для студентов. М. : Владос, 2003 – ISBN 5-691-00958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лкова К. В. История России. 6 класс : Контрольно-измерительные материалы. М. : Вако, 2011 – ISBN 978-5-408-00320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лкова К. В. История России. 7 класс : Контрольно-измерительные материалы. М. : Вако, 2011 – ISBN 978-5-408-00321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лкова К. В. История России. 8 класс : Контрольно-измерительные материалы. М. : Вако, 2011 – ISBN 978-5-408-00322-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лкова К. В. История России. 9 класс : Контрольно-измерительные материалы. М. : Вако, 2011 – ISBN 978-5-408-00087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евуркова Е. А., Ларина Л. И. История. Решение сложных заданий : Учебное пособие. М. : Интеллект-центр, 2010 - ISBN 978-5-89790-617-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зин Р. В. История России. 10-11 классы. Тематические тесты для подготовки к ЕГЭ. Задания высокого уровня сложности : Учебное пособие. РнД. : Легион, 2010 - ISBN 978-5-9966-0050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зин Р. В. История России. 10 класс. Тесты для промежуточной аттестации : Учебное пособие. РнД. : Легион, 2009 - ISBN 978-5-9966-0008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елевко С. К. Современные образовательные технологии. М. : Народное образование, 1998 - ISBN 5-9966-008-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елова О. Ю. История. Выполнение заданий части 3(С): Учебно-методическое пособие. М. : Экзамен, 2008 - ISBN 978-5-377-01189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292720" y="1125360"/>
            <a:ext cx="33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Узнать можно лишь тогда, когда учишьс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ойти можно лишь тогда, когда идёшь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Вьетнамская послов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f731"/>
                </a:solidFill>
                <a:latin typeface="Times New Roman"/>
              </a:rPr>
              <a:t>«Урок – первый очаг, согревшись у которого, человек стремится стать мыслителем» (В. А. Сухомлинский).</a:t>
            </a: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852640"/>
            <a:ext cx="770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одернизация общеобразовательной школы предполагает ориентацию образования  не  только  на усвоение  обучающимся  определенной суммы знаний,  но и на развитие его личности,  его познавательных и созидательных способностей. Школа должна формировать целостную систему универсальных знаний,  умений,  навыков,  а также опыт самостоятельной деятельности и личной ответственности обучающихся, то есть ключевые компетенции, определяющие современное качество содержания образов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f731"/>
                </a:solidFill>
                <a:latin typeface="Times New Roman"/>
              </a:rPr>
              <a:t>Место и назначение заданий с развернутыми ответами в экзаменационной работе</a:t>
            </a: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1413000"/>
            <a:ext cx="727236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дним из видов заданий с развернутым ответом является задания С7, которые нацелены на определенные умения сопоставлять различные события, явления, процессы, демонстрируя при этом знание фактического материала, и соответствуют требованиям Государственного образовательного стандарта к уровню подготовки выпускников: уметь выявлять общность и различия сравниваемых исторических событий и явл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орма развернутого ответа даёт возможность увидеть, насколько свободно учащиеся владеют историческим материалом, позволяет в значительно большей степени, чем в заданиях с выбором ответа, оценить индивидуальную подготовленность учени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f731"/>
                </a:solidFill>
                <a:latin typeface="Times New Roman"/>
              </a:rPr>
              <a:t>Место и назначение заданий с развернутыми ответами в экзаменационной работе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268280"/>
            <a:ext cx="8064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На протяжении всех лет изучения истории школьникам предлагается сравнивать исторических деятелей, причины и следствия крупнейших событий, условия жизни, орудия труда, политические программы, тенденции развития общества и т.п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Задания части 3 (С) занимают значительное место в структуре экзаменационной работы. При удачном выполнении задания высокого уровня сложности могут принести весомый результат в общий показатель оценки всей работы (32,4% от максимального первичного балла за всю работу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Понятие «задание с «открытыми ответами» сравнительно недавно стало употребляться в методической литературе, хотя сами задания не являются абсолютно новым явлением школьного обучения истории. В большей или меньшей степени они использовались в учебника, поурочных пособиях и дидактических сборниках, но доминировали задания, в которых ученикам предлагали доказать сделанный кем-то вывод, провести сравнение по установленным критериям, охарактеризовать историческое событие или личность в общепринятой тональности и т.п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f731"/>
                </a:solidFill>
                <a:latin typeface="Times New Roman"/>
              </a:rPr>
              <a:t>Место и назначение заданий с развернутыми ответами в экзаменационной работе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1700280"/>
            <a:ext cx="777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едлагая задания школьникам, необходимо разъяснить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 чем заключается суть сравн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 каким критериям выделяются и формулируются линии сравнения однородных факт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акие частные выводы предполагаются по итогам сравнительных операц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акие варианты сравнения существую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что такое парные и непарные призна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равнение – это сложный приём анализа, сопоставления и обобщения по содержательным линиям сущности двух и более однородных исторических факт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72400" cy="43200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f731"/>
                </a:solidFill>
                <a:latin typeface="Times New Roman"/>
              </a:rPr>
              <a:t>Сравнительно-обобщающая таблица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42920" y="836640"/>
          <a:ext cx="7777080" cy="2548080"/>
        </p:xfrm>
        <a:graphic>
          <a:graphicData uri="http://schemas.openxmlformats.org/drawingml/2006/table">
            <a:tbl>
              <a:tblPr/>
              <a:tblGrid>
                <a:gridCol w="3889440"/>
                <a:gridCol w="3887640"/>
              </a:tblGrid>
              <a:tr h="7333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…………………………………………………………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…………………………………………………………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……………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……………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…………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…………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………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………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042920" y="3716280"/>
          <a:ext cx="7777080" cy="2489400"/>
        </p:xfrm>
        <a:graphic>
          <a:graphicData uri="http://schemas.openxmlformats.org/drawingml/2006/table">
            <a:tbl>
              <a:tblPr/>
              <a:tblGrid>
                <a:gridCol w="2460600"/>
                <a:gridCol w="1263600"/>
                <a:gridCol w="1263960"/>
                <a:gridCol w="1263600"/>
                <a:gridCol w="152532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ы срав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сравнения по каждой ли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нии (вопросы для) сравнения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228600" algn="ctr"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228600" algn="ctr"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228600" algn="ctr"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бщение результатов сравне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72400" cy="43200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f731"/>
                </a:solidFill>
                <a:latin typeface="Times New Roman"/>
              </a:rPr>
              <a:t>Сравнительно-обобщающая таблица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1197000"/>
            <a:ext cx="7921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чиная сравнение, нужн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делить существенные признаки (линии), по которым целесообразно провести сопоставление исторических факт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тем сформулировать их в виде пунктов краткого стереотипного плана, записать в первую графу таблиц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 другие графы (2, 3, 4) по горизонтали заносятся сведения по каждой линии сравн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ормулируются частные выводы о сходстве или различии сравниваемых объект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тоги всей сравнительной работы сходятся в обобщающем выводе, представляющем собо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либо систематизированный перечень сходств и различий (вывод-перечисление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либо оценку значимости / соотношения общего и отличного в сопоставлявшихся объектах (оценочный вывод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72400" cy="43200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f731"/>
                </a:solidFill>
                <a:latin typeface="Times New Roman"/>
              </a:rPr>
              <a:t>Сравнительно-обобщающая таблица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42920" y="981000"/>
            <a:ext cx="7921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мер 2. С7. Сравните промышленное производство в России (типы предприятий, техническую оснащённость, характер используемой рабочей силы) с начал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в. до реформ 1860-1870-х гг. и после Великих реформ вплоть до окончания промышленного переворота. Укажите, что было общим (не менее трёх общих характеристик), а что различным (не менее трёх различий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ние строится на сравнительной характеристике только двух объектов, зато предложенная к нему форма таблицы чётко указывает на направления в сопоставлении исторических фактов: выявление общего и различного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мплекс знаний и умений, определённый как объект проверки в данном виде заданий, складывается из следующих знаний и умений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нание основных фактов, явлений, характеризующих целостность исторического процесс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руппировка исторической информац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ыявление общих черт и различий сравниваемых исторических событий, процесс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формулировке задания при внимательном чтении можно выявить информацию, помогающую структурировать само задание и ответ на нег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72400" cy="43200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f731"/>
                </a:solidFill>
                <a:latin typeface="Times New Roman"/>
              </a:rPr>
              <a:t>Опорная схема сравнения двух фактов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907920"/>
            <a:ext cx="68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ной приём,                          объек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авляющие его действия       характерис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ривест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бщ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промышлен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арактеристики             производство в Росс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1-й компонент)     (2-й компонен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 реформ              после рефор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860-1870-х гг.        1860-1870-х г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 конц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                         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 в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ривест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лич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                                                   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                                                    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                                                    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64000" y="1557360"/>
            <a:ext cx="504720" cy="792000"/>
          </a:xfrm>
          <a:prstGeom prst="downArrow">
            <a:avLst>
              <a:gd name="adj1" fmla="val 28306"/>
              <a:gd name="adj2" fmla="val 8068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1557360"/>
            <a:ext cx="504720" cy="792000"/>
          </a:xfrm>
          <a:prstGeom prst="downArrow">
            <a:avLst>
              <a:gd name="adj1" fmla="val 28306"/>
              <a:gd name="adj2" fmla="val 8068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4962240" y="2606400"/>
            <a:ext cx="228600" cy="3600360"/>
          </a:xfrm>
          <a:custGeom>
            <a:avLst/>
            <a:gdLst>
              <a:gd name="textAreaLeft" fmla="*/ 0 w 228600"/>
              <a:gd name="textAreaRight" fmla="*/ 82440 w 22860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635280" y="4508640"/>
            <a:ext cx="9590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4508640"/>
            <a:ext cx="934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User</cp:lastModifiedBy>
  <dcterms:modified xsi:type="dcterms:W3CDTF">2011-10-10T16:46:34Z</dcterms:modified>
  <cp:revision>101</cp:revision>
  <dc:subject/>
  <dc:title>ОСОБЕННОСТИ ДРЕВНИХ ЦИВИЛИЗАЦИЙ.</dc:title>
</cp:coreProperties>
</file>