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F32-8C4A-45AF-83BC-722F0C71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ABF-CCDF-42CD-9A48-CC72539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AD6-A8FB-44D2-B2F4-38DED143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87A-B423-40B8-9900-3F0B29B8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131-CB5A-4F37-8BFA-D8ADEA4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FF6-ED86-4E1E-87AD-66DA235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A4E-6E7B-4C7F-9633-763C321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937-D390-4365-8949-CA6D5013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FE3-45B6-467E-AC97-FF7DC657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19A-6B07-4C9B-8746-B937C16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F9D-B496-4532-B884-5060E7EB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22E-C350-424A-A155-8045A3F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917-A886-414F-987B-3B5FC50BB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int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90720" y="380880"/>
            <a:ext cx="7315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n der Stadt ist nun Win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</a:t>
            </a:r>
            <a:r>
              <a:rPr b="1" lang="de-DE" sz="2400" spc="-1" strike="noStrike">
                <a:solidFill>
                  <a:srgbClr val="ff0066"/>
                </a:solidFill>
                <a:latin typeface="Arial"/>
              </a:rPr>
              <a:t>Die Jahreszeiten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1" lang="de-DE" sz="2400" spc="-1" strike="noStrike">
                <a:solidFill>
                  <a:srgbClr val="ff0066"/>
                </a:solidFill>
                <a:latin typeface="Arial"/>
              </a:rPr>
              <a:t>Der Winter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de-DE" sz="2400" spc="-1" strike="noStrike">
                <a:solidFill>
                  <a:srgbClr val="ff0066"/>
                </a:solidFill>
                <a:latin typeface="Arial"/>
              </a:rPr>
              <a:t> Die Wochentage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572000" y="5334120"/>
            <a:ext cx="43434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в 5 «б»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а учитель немецкого язы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чкинадзе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я №1, г. Мыти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51051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Sucht die richtigen Äquivalente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52280" y="9133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Es ist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52280" y="1446840"/>
            <a:ext cx="2438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Es ist Frühling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52280" y="1980000"/>
            <a:ext cx="190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Es ist kal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152280" y="2513520"/>
            <a:ext cx="2057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Es ist warm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52280" y="3123000"/>
            <a:ext cx="2438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Es schneit of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52280" y="365652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. Es tau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52280" y="4190040"/>
            <a:ext cx="3200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. Überall liegt Schne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152280" y="47995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 Alles ist grü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152280" y="5409000"/>
            <a:ext cx="556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. Die Kinder laufen Schi und Schlittsch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52280" y="6018840"/>
            <a:ext cx="3581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. Die Kinder fahren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6172200" y="4190040"/>
            <a:ext cx="2666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 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ёт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е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4724280" y="1980000"/>
            <a:ext cx="4419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катаются на велосип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6019920" y="1446840"/>
            <a:ext cx="12189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6172200" y="251352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езде лежит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6172200" y="312300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Всё зелёно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6172200" y="365652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3962520" y="913320"/>
            <a:ext cx="5181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ети катаются на лыжах и конь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172200" y="4799520"/>
            <a:ext cx="1752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5409000"/>
            <a:ext cx="1219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ет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6172200" y="601884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2438280" y="1219320"/>
            <a:ext cx="3581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2590920" y="1676520"/>
            <a:ext cx="358128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>
            <a:off x="2057400" y="2209680"/>
            <a:ext cx="411480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2209680" y="2743200"/>
            <a:ext cx="3962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2590920" y="3352680"/>
            <a:ext cx="358128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1600200" y="3886200"/>
            <a:ext cx="457200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 flipV="1">
            <a:off x="3352680" y="2742840"/>
            <a:ext cx="28195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 flipV="1">
            <a:off x="2438280" y="3352320"/>
            <a:ext cx="37339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V="1">
            <a:off x="3352680" y="1447920"/>
            <a:ext cx="76212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0"/>
          <p:cNvSpPr/>
          <p:nvPr/>
        </p:nvSpPr>
        <p:spPr>
          <a:xfrm flipV="1">
            <a:off x="3505320" y="2437920"/>
            <a:ext cx="1523880" cy="358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4100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ählt die Sätze über</a:t>
            </a: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 den Winter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" y="98964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Es ist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28600" y="1751400"/>
            <a:ext cx="2438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Es ist Frühling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" y="2513520"/>
            <a:ext cx="190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Es ist kal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28600" y="3275640"/>
            <a:ext cx="2057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Es ist warm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28600" y="4037400"/>
            <a:ext cx="2438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Es schneit of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276720" y="989640"/>
            <a:ext cx="1447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. Es tau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276720" y="1751400"/>
            <a:ext cx="3200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. Überall liegt Schne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276720" y="25135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 Alles ist grü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276720" y="3275640"/>
            <a:ext cx="556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. Die Kinder laufen Schi und Schlittsch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352680" y="4037400"/>
            <a:ext cx="3581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. Die Kinder fahren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2057400" y="4876920"/>
            <a:ext cx="56386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ählt die Sätze über</a:t>
            </a: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9900"/>
                </a:solidFill>
                <a:latin typeface="Times New Roman"/>
              </a:rPr>
              <a:t>den Frühling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486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Stellt die Sätze richtig zusammen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48320" y="106560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Es ist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5800" y="106560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ist, es,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648320" y="1751400"/>
            <a:ext cx="1904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Es ist kal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85800" y="1751400"/>
            <a:ext cx="1981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kalt, ist, e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648320" y="2437200"/>
            <a:ext cx="2438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Es schneit of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85800" y="2437200"/>
            <a:ext cx="2438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es, oft, schnei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4648320" y="3199320"/>
            <a:ext cx="3200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Überall liegt Schne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85800" y="3199320"/>
            <a:ext cx="3200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Schnee, überall, lieg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600200" y="4723200"/>
            <a:ext cx="556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Die Kinder laufen Schi und Schlittsch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600200" y="4037400"/>
            <a:ext cx="5791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Schi, die Kinder, und, laufen, Schlittsch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486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Stellt die Sätze richtig zusammen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029200" y="1065600"/>
            <a:ext cx="2438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Es ist Frühling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029200" y="1827720"/>
            <a:ext cx="2057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Es ist warm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029200" y="258984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Es tau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029200" y="327564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Alles ist grü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029200" y="4037400"/>
            <a:ext cx="3581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Die Kinder fahren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57200" y="106560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Frühling, es, is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57200" y="182772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ist, warm, e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57200" y="258984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taut, e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57200" y="327564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grün, alles,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57200" y="4037400"/>
            <a:ext cx="3581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fahren, Rad, die K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image036"/>
          <p:cNvPicPr/>
          <p:nvPr/>
        </p:nvPicPr>
        <p:blipFill>
          <a:blip r:embed="rId1"/>
          <a:stretch/>
        </p:blipFill>
        <p:spPr>
          <a:xfrm>
            <a:off x="4876920" y="373392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B-WM-2009-01-02-YasenevoHillside-5K4Z0305"/>
          <p:cNvPicPr/>
          <p:nvPr/>
        </p:nvPicPr>
        <p:blipFill>
          <a:blip r:embed="rId2"/>
          <a:stretch/>
        </p:blipFill>
        <p:spPr>
          <a:xfrm>
            <a:off x="0" y="373392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a405485f3bd6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7339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8"/>
          <p:cNvSpPr txBox="1"/>
          <p:nvPr/>
        </p:nvSpPr>
        <p:spPr>
          <a:xfrm>
            <a:off x="4114800" y="3733920"/>
            <a:ext cx="3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4876920" y="609480"/>
            <a:ext cx="30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4876920" y="3733920"/>
            <a:ext cx="30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11" descr="zima"/>
          <p:cNvPicPr/>
          <p:nvPr/>
        </p:nvPicPr>
        <p:blipFill>
          <a:blip r:embed="rId4"/>
          <a:stretch/>
        </p:blipFill>
        <p:spPr>
          <a:xfrm>
            <a:off x="0" y="609480"/>
            <a:ext cx="4495680" cy="3124440"/>
          </a:xfrm>
          <a:prstGeom prst="rect">
            <a:avLst/>
          </a:prstGeom>
          <a:ln w="0">
            <a:noFill/>
          </a:ln>
        </p:spPr>
      </p:pic>
      <p:sp>
        <p:nvSpPr>
          <p:cNvPr id="241" name="WordArt 12"/>
          <p:cNvSpPr txBox="1"/>
          <p:nvPr/>
        </p:nvSpPr>
        <p:spPr>
          <a:xfrm>
            <a:off x="4114800" y="609480"/>
            <a:ext cx="3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5410080"/>
          <a:ext cx="8285040" cy="1219320"/>
        </p:xfrm>
        <a:graphic>
          <a:graphicData uri="http://schemas.openxmlformats.org/drawingml/2006/table">
            <a:tbl>
              <a:tblPr/>
              <a:tblGrid>
                <a:gridCol w="1274760"/>
                <a:gridCol w="1512720"/>
                <a:gridCol w="1832040"/>
                <a:gridCol w="1833840"/>
                <a:gridCol w="18316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B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1722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4191120" cy="56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as machen die Ki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hreibt die Wörter zum Thema </a:t>
            </a: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"Der Winter "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in die erste Kolonne und die Wörter zum Thema </a:t>
            </a:r>
            <a:r>
              <a:rPr b="1" lang="de-DE" sz="2400" spc="-1" strike="noStrike">
                <a:solidFill>
                  <a:srgbClr val="009900"/>
                </a:solidFill>
                <a:latin typeface="Times New Roman"/>
              </a:rPr>
              <a:t>„Der Frühling"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in di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weite Kolonne herau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!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kartinka147-fff644702e6f40e011e24de9a7e4e624"/>
          <p:cNvPicPr/>
          <p:nvPr/>
        </p:nvPicPr>
        <p:blipFill>
          <a:blip r:embed="rId1"/>
          <a:stretch/>
        </p:blipFill>
        <p:spPr>
          <a:xfrm>
            <a:off x="0" y="1905120"/>
            <a:ext cx="4419720" cy="4647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picture111-e5a1b2cd687d7cf376ba708097539557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647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9"/>
          <p:cNvSpPr/>
          <p:nvPr/>
        </p:nvSpPr>
        <p:spPr>
          <a:xfrm>
            <a:off x="380880" y="1860480"/>
            <a:ext cx="3505320" cy="478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der Win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al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Schne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odel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i lauf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Schneeflocken fallen, es schne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Tannen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5029200" y="2287080"/>
            <a:ext cx="3505320" cy="39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00"/>
                </a:solidFill>
                <a:latin typeface="Times New Roman"/>
              </a:rPr>
              <a:t>der Früh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ar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rü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s ta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ad fahr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Frauenta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Apri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Mär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8. Mä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Lest die Fragen und sucht die richtigen Antworten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752480" y="958320"/>
            <a:ext cx="5791320" cy="52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. Welche Jahreszeit ist es jetz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Wann beginnt der Winter?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Wie ist das Wetter im Win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Ist es kalt oder wa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Schneit es oft oder manchma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. Was fällt auf die Erde?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. Wo liegt Schne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 Ist alles weiß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. Wer macht eine Schneeballschl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. Wer läuft Schi und Schlittschu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1. Was feiern wir im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. Was feiern wir am 1. Janu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über freuen sich alle Mens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 im Winter viele schöne Feier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152280" y="304200"/>
            <a:ext cx="3505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. Welche Jahreszeit ist es jetz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114800" y="304200"/>
            <a:ext cx="1828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Es ist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52280" y="913680"/>
            <a:ext cx="3505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Wann beginnt der Wi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114800" y="913680"/>
            <a:ext cx="3886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Der Winter beginnt im Deze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52280" y="1523160"/>
            <a:ext cx="3505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Wie ist das Wetter im Wi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114800" y="1523160"/>
            <a:ext cx="47242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 Das Wetter im Winter ist nicht immer g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52280" y="2133000"/>
            <a:ext cx="2743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Ist es kalt oder wa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4114800" y="2133000"/>
            <a:ext cx="15238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Es ist k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152280" y="2818800"/>
            <a:ext cx="36576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Schneit es oft oder manch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4114800" y="2818800"/>
            <a:ext cx="1828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. Es schneit 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52280" y="3428280"/>
            <a:ext cx="2743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Was fällt auf die Er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114800" y="3428280"/>
            <a:ext cx="4495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 Die Schneeflocken fallen auf die 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152280" y="4037760"/>
            <a:ext cx="2286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Wo liegt Schn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4114800" y="4037760"/>
            <a:ext cx="25909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. Überall liegt Schn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152280" y="4647600"/>
            <a:ext cx="19051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. Ist alles weiß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4114800" y="4647600"/>
            <a:ext cx="19051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lles ist weiß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8"/>
          <p:cNvSpPr/>
          <p:nvPr/>
        </p:nvSpPr>
        <p:spPr>
          <a:xfrm>
            <a:off x="152280" y="5257080"/>
            <a:ext cx="42674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. Wer macht eine Schneeballschlac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9"/>
          <p:cNvSpPr/>
          <p:nvPr/>
        </p:nvSpPr>
        <p:spPr>
          <a:xfrm>
            <a:off x="3581280" y="5866560"/>
            <a:ext cx="5105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. Die Kinder machen eine Schneeballschl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228600" y="380160"/>
            <a:ext cx="3962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 Wer läuft Schi und Schlittschu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2209680" y="990000"/>
            <a:ext cx="6705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. Die Jungen und Mädchen laufen Schi u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ittschuh 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1599480"/>
            <a:ext cx="3276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 Was feiern wir im Wi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038480" y="1599480"/>
            <a:ext cx="3886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Im Winter feiern wir Weihnach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8600" y="2285280"/>
            <a:ext cx="3505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Wann beginnt der Wi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4038480" y="2285280"/>
            <a:ext cx="3886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Der Winter beginnt im Deze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228600" y="2971080"/>
            <a:ext cx="35812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. Was feiern wir am 1. Janu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228600" y="3580560"/>
            <a:ext cx="43434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über freuen sich alle Mensc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228600" y="4799880"/>
            <a:ext cx="4572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im Winter viele schöne Feiert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038480" y="2971080"/>
            <a:ext cx="38102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. Am 1. Januar feiern wir Neuj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3962520" y="4190400"/>
            <a:ext cx="48765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lle Menschen freuen sich über de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4343400" y="5485680"/>
            <a:ext cx="4495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Im Winter sind viele schöne Feier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019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для самостоятельн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33520" y="836640"/>
            <a:ext cx="57150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«5» - задания № 4, 5 (Тес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дание № 15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«Die Jahreszeiten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3520" y="1827720"/>
            <a:ext cx="716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«4» - задания № 10, 11, 12, 13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«Die Jahreszeiten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4"/>
          <p:cNvPicPr/>
          <p:nvPr/>
        </p:nvPicPr>
        <p:blipFill>
          <a:blip r:embed="rId1"/>
          <a:stretch/>
        </p:blipFill>
        <p:spPr>
          <a:xfrm>
            <a:off x="3429000" y="2371680"/>
            <a:ext cx="5715000" cy="44863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304920" y="2818080"/>
            <a:ext cx="28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usaufga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. 5, S. 198 (S. 2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85800" y="5180040"/>
            <a:ext cx="1676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schü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s G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410080" cy="63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Stellt die Monate der Reihe na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33520" y="1219320"/>
            <a:ext cx="82296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er Januar                 5. der Juni                       9. der Augu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der März                   6. der Mai                      10. der Oktob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der Februar               7. der Juli                      11. der Dezemb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der April                    8. der September          12. der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33520" y="3199320"/>
            <a:ext cx="18129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er Janu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33520" y="3885120"/>
            <a:ext cx="1977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der Februa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520" y="4647240"/>
            <a:ext cx="1672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der Mär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657960" y="3199320"/>
            <a:ext cx="1520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 der Ma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657960" y="388512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. der Ju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657600" y="4647240"/>
            <a:ext cx="1470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. der J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3658680" y="5333040"/>
            <a:ext cx="1909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 der Augu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399720" y="3199320"/>
            <a:ext cx="225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. der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477480" y="3885120"/>
            <a:ext cx="2103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. der Ok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477120" y="4647240"/>
            <a:ext cx="2392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1. der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476760" y="5333040"/>
            <a:ext cx="2358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. der Dez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33520" y="5333040"/>
            <a:ext cx="159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der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876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ie heißen die Jahreszeiten? </a:t>
            </a:r>
            <a:br>
              <a:rPr sz="2800"/>
            </a:b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Findet die passenden Wörter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380880" y="989280"/>
            <a:ext cx="8534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er Somm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3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Winter     5. der Schnee           7. der Mo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der Montag      4. der März        6. der Frühling         8. der Herb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04200" y="1980000"/>
            <a:ext cx="2050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er Somm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2665800" y="1980000"/>
            <a:ext cx="1864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der W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4800600" y="1980000"/>
            <a:ext cx="2003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der Früh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7086960" y="1980000"/>
            <a:ext cx="1765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der Herb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2209680" y="2666880"/>
            <a:ext cx="5257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Stellt die Jahreszeiten der Reihe n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299520" y="3275640"/>
            <a:ext cx="3766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erste Jahreszeit heißt ---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99520" y="4190040"/>
            <a:ext cx="3986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zweite Jahreszeit heißt ---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298440" y="5028120"/>
            <a:ext cx="3835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dritte Jahreszeit heißt ---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298800" y="5866200"/>
            <a:ext cx="3885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ierte Jahreszeit heißt ---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2"/>
          <p:cNvGrpSpPr/>
          <p:nvPr/>
        </p:nvGrpSpPr>
        <p:grpSpPr>
          <a:xfrm>
            <a:off x="4572000" y="3276720"/>
            <a:ext cx="4343400" cy="3352680"/>
            <a:chOff x="4572000" y="3276720"/>
            <a:chExt cx="4343400" cy="3352680"/>
          </a:xfrm>
        </p:grpSpPr>
        <p:pic>
          <p:nvPicPr>
            <p:cNvPr id="70" name="Picture 30" descr="kartinka142-f4f4eed5fc820bab87d58fd0e13fadc3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4343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31"/>
            <p:cNvSpPr/>
            <p:nvPr/>
          </p:nvSpPr>
          <p:spPr>
            <a:xfrm>
              <a:off x="4572000" y="3276720"/>
              <a:ext cx="15238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r Wi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9"/>
          <p:cNvGrpSpPr/>
          <p:nvPr/>
        </p:nvGrpSpPr>
        <p:grpSpPr>
          <a:xfrm>
            <a:off x="4572000" y="3276720"/>
            <a:ext cx="4343400" cy="3352680"/>
            <a:chOff x="4572000" y="3276720"/>
            <a:chExt cx="4343400" cy="3352680"/>
          </a:xfrm>
        </p:grpSpPr>
        <p:pic>
          <p:nvPicPr>
            <p:cNvPr id="73" name="Picture 33" descr="picture85-af621a90c5cf0140084c1497d1740e74"/>
            <p:cNvPicPr/>
            <p:nvPr/>
          </p:nvPicPr>
          <p:blipFill>
            <a:blip r:embed="rId2"/>
            <a:stretch/>
          </p:blipFill>
          <p:spPr>
            <a:xfrm>
              <a:off x="4572000" y="3276720"/>
              <a:ext cx="4343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4"/>
            <p:cNvSpPr/>
            <p:nvPr/>
          </p:nvSpPr>
          <p:spPr>
            <a:xfrm>
              <a:off x="4572000" y="4191120"/>
              <a:ext cx="15667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r Frühl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42"/>
          <p:cNvGrpSpPr/>
          <p:nvPr/>
        </p:nvGrpSpPr>
        <p:grpSpPr>
          <a:xfrm>
            <a:off x="4572000" y="3276720"/>
            <a:ext cx="4343400" cy="3352680"/>
            <a:chOff x="4572000" y="3276720"/>
            <a:chExt cx="4343400" cy="3352680"/>
          </a:xfrm>
        </p:grpSpPr>
        <p:pic>
          <p:nvPicPr>
            <p:cNvPr id="76" name="Picture 40" descr="kartinka154-f4cb55f59e82092d8f55cebaaff6682e"/>
            <p:cNvPicPr/>
            <p:nvPr/>
          </p:nvPicPr>
          <p:blipFill>
            <a:blip r:embed="rId3"/>
            <a:stretch/>
          </p:blipFill>
          <p:spPr>
            <a:xfrm>
              <a:off x="4572000" y="3276720"/>
              <a:ext cx="4343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1"/>
            <p:cNvSpPr/>
            <p:nvPr/>
          </p:nvSpPr>
          <p:spPr>
            <a:xfrm>
              <a:off x="4572000" y="5029200"/>
              <a:ext cx="16002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r Som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5"/>
          <p:cNvGrpSpPr/>
          <p:nvPr/>
        </p:nvGrpSpPr>
        <p:grpSpPr>
          <a:xfrm>
            <a:off x="4572000" y="3276720"/>
            <a:ext cx="4343400" cy="3352680"/>
            <a:chOff x="4572000" y="3276720"/>
            <a:chExt cx="4343400" cy="3352680"/>
          </a:xfrm>
        </p:grpSpPr>
        <p:pic>
          <p:nvPicPr>
            <p:cNvPr id="79" name="Picture 43" descr="kartinka125-efba392a1e6f731c804dd24a5261409b"/>
            <p:cNvPicPr/>
            <p:nvPr/>
          </p:nvPicPr>
          <p:blipFill>
            <a:blip r:embed="rId4"/>
            <a:stretch/>
          </p:blipFill>
          <p:spPr>
            <a:xfrm>
              <a:off x="4572000" y="3276720"/>
              <a:ext cx="4343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4"/>
            <p:cNvSpPr/>
            <p:nvPr/>
          </p:nvSpPr>
          <p:spPr>
            <a:xfrm>
              <a:off x="4572000" y="5867280"/>
              <a:ext cx="12952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r Herb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48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ann ist es? Findet die richtigen Bilder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6480" y="1065600"/>
            <a:ext cx="159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Times New Roman"/>
              </a:rPr>
              <a:t>im W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438280" y="1065600"/>
            <a:ext cx="18129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Times New Roman"/>
              </a:rPr>
              <a:t>im Frühling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724280" y="1065600"/>
            <a:ext cx="176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Times New Roman"/>
              </a:rPr>
              <a:t>im Somm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934320" y="106560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Times New Roman"/>
              </a:rPr>
              <a:t>im Herb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"/>
          <p:cNvPicPr/>
          <p:nvPr/>
        </p:nvPicPr>
        <p:blipFill>
          <a:blip r:embed="rId1"/>
          <a:stretch/>
        </p:blipFill>
        <p:spPr>
          <a:xfrm>
            <a:off x="1371600" y="1676520"/>
            <a:ext cx="6629400" cy="487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kartinka118-d3ceff90b7c6d6f64c6da59bb21b6f9e"/>
          <p:cNvPicPr/>
          <p:nvPr/>
        </p:nvPicPr>
        <p:blipFill>
          <a:blip r:embed="rId2"/>
          <a:stretch/>
        </p:blipFill>
        <p:spPr>
          <a:xfrm>
            <a:off x="1371600" y="1676520"/>
            <a:ext cx="6629400" cy="48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kartinka138-df1e1a210382eceb4a90223d4ce49bc4"/>
          <p:cNvPicPr/>
          <p:nvPr/>
        </p:nvPicPr>
        <p:blipFill>
          <a:blip r:embed="rId3"/>
          <a:stretch/>
        </p:blipFill>
        <p:spPr>
          <a:xfrm>
            <a:off x="1371600" y="1676520"/>
            <a:ext cx="6629400" cy="48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kartinka116-f486d77b7064fe95d1aa845186fafdc5"/>
          <p:cNvPicPr/>
          <p:nvPr/>
        </p:nvPicPr>
        <p:blipFill>
          <a:blip r:embed="rId4"/>
          <a:stretch/>
        </p:blipFill>
        <p:spPr>
          <a:xfrm>
            <a:off x="1371600" y="1676520"/>
            <a:ext cx="6629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19814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inter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990720"/>
            <a:ext cx="411480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nter kommt! Winter kommt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ocken fallen niede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ist kalt. Es ist kal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iß ist alles wi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800600" y="990720"/>
            <a:ext cx="38098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e, falle, weißer Schnee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lter Schnee, kalter Schnee!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Eisbahn wird der See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wir freuen uns al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3"/>
          <p:cNvPicPr/>
          <p:nvPr/>
        </p:nvPicPr>
        <p:blipFill>
          <a:blip r:embed="rId1"/>
          <a:stretch/>
        </p:blipFill>
        <p:spPr>
          <a:xfrm>
            <a:off x="1905120" y="2771640"/>
            <a:ext cx="5410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ie viel und welche Monate hat jede Jahreszeit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28600" y="1065600"/>
            <a:ext cx="3733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er Winter hat__ Monate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6440" y="1751400"/>
            <a:ext cx="3995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Der Frühling hat___Mon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6080" y="2437200"/>
            <a:ext cx="4042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Der Sommer hat __ Monate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27160" y="3123000"/>
            <a:ext cx="368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 Der Herbst hat __Mon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76520" y="5942160"/>
            <a:ext cx="19011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Dez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176880" y="5256360"/>
            <a:ext cx="1935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38200" y="3884760"/>
            <a:ext cx="150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Janu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38200" y="4646880"/>
            <a:ext cx="1672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Februa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38200" y="5332680"/>
            <a:ext cx="1368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Mär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538560" y="6018480"/>
            <a:ext cx="1291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357720" y="3884760"/>
            <a:ext cx="1215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Ma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358080" y="4570560"/>
            <a:ext cx="123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Ju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3357360" y="5332680"/>
            <a:ext cx="1165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J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3358440" y="6018480"/>
            <a:ext cx="16041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Augu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6177600" y="4570560"/>
            <a:ext cx="1646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Ok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6175800" y="3808800"/>
            <a:ext cx="195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Times New Roman"/>
              </a:rPr>
              <a:t>der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21"/>
          <p:cNvSpPr txBox="1"/>
          <p:nvPr/>
        </p:nvSpPr>
        <p:spPr>
          <a:xfrm>
            <a:off x="2514600" y="106668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23"/>
          <p:cNvSpPr txBox="1"/>
          <p:nvPr/>
        </p:nvSpPr>
        <p:spPr>
          <a:xfrm>
            <a:off x="2743200" y="175248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24"/>
          <p:cNvSpPr txBox="1"/>
          <p:nvPr/>
        </p:nvSpPr>
        <p:spPr>
          <a:xfrm>
            <a:off x="2743200" y="243828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25"/>
          <p:cNvSpPr txBox="1"/>
          <p:nvPr/>
        </p:nvSpPr>
        <p:spPr>
          <a:xfrm>
            <a:off x="2514600" y="304812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26" descr="2"/>
          <p:cNvPicPr/>
          <p:nvPr/>
        </p:nvPicPr>
        <p:blipFill>
          <a:blip r:embed="rId1"/>
          <a:stretch/>
        </p:blipFill>
        <p:spPr>
          <a:xfrm>
            <a:off x="2133720" y="3733920"/>
            <a:ext cx="4762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15 -0.0333 L -0.23715 -0.71029 E">
                                      <p:cBhvr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0.02219 L 0.59253 -0.41064 E">
                                      <p:cBhvr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16 -0.0333 L 0.7585 -0.52162 E">
                                      <p:cBhvr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17 -0.04439 L 0.40851 -0.52162 E">
                                      <p:cBhvr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34 -0.0444 L 0.56268 -0.62151 E">
                                      <p:cBhvr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84 0.01109 L 0.40851 -0.31076 E">
                                      <p:cBhvr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-0.05549 L 0.10712 -0.31075 E">
                                      <p:cBhvr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5549 L 0.25243 -0.42173 E">
                                      <p:cBhvr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4 -0.0444 L 0.38664 -0.52162 E">
                                      <p:cBhvr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12 -0.0333 L -0.24045 -0.09989 E">
                                      <p:cBhvr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0.0333 L -0.02395 -0.21087 E">
                                      <p:cBhvr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5549E-006 L 0.09375 -0.23307 E">
                                      <p:cBhvr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086600" cy="48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Wie heißen die Wochentage der Reihe nach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02400" y="913320"/>
            <a:ext cx="376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Monat hat __ Wochen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4419720" y="9144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4876920" y="9144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5334120" y="9144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80880" y="1599120"/>
            <a:ext cx="3200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 Woche hat  _Tag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4"/>
          <p:cNvSpPr txBox="1"/>
          <p:nvPr/>
        </p:nvSpPr>
        <p:spPr>
          <a:xfrm>
            <a:off x="3886200" y="16002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15"/>
          <p:cNvSpPr txBox="1"/>
          <p:nvPr/>
        </p:nvSpPr>
        <p:spPr>
          <a:xfrm>
            <a:off x="4419720" y="16002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4952880" y="1600200"/>
            <a:ext cx="23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377640" y="2284920"/>
            <a:ext cx="35215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ers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77640" y="2970720"/>
            <a:ext cx="3740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zwei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76920" y="3656520"/>
            <a:ext cx="3589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drit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376920" y="4342320"/>
            <a:ext cx="364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vier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77640" y="4951800"/>
            <a:ext cx="36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fünf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77640" y="5561640"/>
            <a:ext cx="3826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echs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76920" y="6247440"/>
            <a:ext cx="3945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iebente Wochentag heiß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5029200" y="2284920"/>
            <a:ext cx="159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Mon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9200" y="2970720"/>
            <a:ext cx="1732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Diens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5028840" y="3656520"/>
            <a:ext cx="1834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Mittw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029200" y="4342320"/>
            <a:ext cx="205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Donners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5028480" y="4951800"/>
            <a:ext cx="151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Frei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028120" y="5561640"/>
            <a:ext cx="3655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onnabend, der Sams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5029560" y="6247440"/>
            <a:ext cx="1646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onn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1.21387E-006 L -0.26302 1.21387E-006 E">
                                      <p:cBhvr>
                                        <p:cTn id="31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1.44509E-006 L -0.22135 -1.44509E-006 E">
                                      <p:cBhvr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400800" cy="48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66"/>
                </a:solidFill>
                <a:latin typeface="Times New Roman"/>
              </a:rPr>
              <a:t>Welche Zeilen reimen sich miteinander?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837000"/>
            <a:ext cx="1752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, a, a,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29680" y="1599120"/>
            <a:ext cx="1569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, e, e,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28600" y="2437200"/>
            <a:ext cx="4952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tern war der Himmel grau,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0040" y="3199320"/>
            <a:ext cx="2921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Sonne glüht, … 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4113720"/>
            <a:ext cx="2782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s Korn wird voll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24280" y="5028120"/>
            <a:ext cx="3624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lätterfall, Blätterfall,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5180400" y="837000"/>
            <a:ext cx="338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Überall liegt der Sch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5181480" y="1599120"/>
            <a:ext cx="3733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ute ist der Himmel blau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5257080" y="2437200"/>
            <a:ext cx="3079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unte Blätter überall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5181480" y="3275640"/>
            <a:ext cx="344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Winter ist schon da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5259240" y="4113720"/>
            <a:ext cx="2184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Rose blüht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5260320" y="5028120"/>
            <a:ext cx="2806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nn ist das wohl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1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57913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Stellt die Wörter richtig zusammen</a:t>
            </a:r>
            <a:r>
              <a:rPr b="0" lang="de-DE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838080" y="989640"/>
            <a:ext cx="2743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die Woche (-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38080" y="1675440"/>
            <a:ext cx="2438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as Jahr (-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38080" y="2361240"/>
            <a:ext cx="1524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fei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62120" y="3047040"/>
            <a:ext cx="2666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ie Tanne (-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838080" y="373284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er Sch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410080" y="989640"/>
            <a:ext cx="1600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er Ta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410080" y="1675440"/>
            <a:ext cx="16765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ie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410080" y="2361240"/>
            <a:ext cx="114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ne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410080" y="3047040"/>
            <a:ext cx="190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der Ba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5410080" y="373284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Flock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523880" y="441864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1. der Wochen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1523880" y="571392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3. der Feier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648320" y="4418640"/>
            <a:ext cx="2133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4. das Neuja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4648320" y="5028120"/>
            <a:ext cx="28191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5. der Tannenb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48320" y="5713920"/>
            <a:ext cx="2895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6. die Schneeflo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1523880" y="50281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. die Jahre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9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0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3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47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8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6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5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0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9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0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3-09-15T09:17:4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